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9.png" ContentType="image/png"/>
  <Override PartName="/ppt/media/image35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8.wmf" ContentType="image/x-wmf"/>
  <Override PartName="/ppt/media/image13.png" ContentType="image/png"/>
  <Override PartName="/ppt/media/image38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4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70B-A8F3-48EC-8F4C-EF9BAC98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098-50EB-40BC-BE4C-26C0FD3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C58-7D15-43E9-81BE-228102C5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E88-FEC6-46C6-8A88-36CA29B0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BEE8-A98D-4F9B-8DB9-79D0E400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1C49-A1B2-465E-9993-22927BA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586-4020-4E1F-A2DC-D04B793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C02E-19F9-4517-A35C-C87B72F0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933-1D50-403F-B2B1-B9643DAB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4B36-5E16-4994-B719-761CDD2B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4C56-15FE-4E95-A027-C920379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17C-0923-4836-9626-A241153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02E5-9D5F-4F8B-BEC3-03F9D5D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CB66-1585-466E-8FAE-F5C3ADD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8512-505F-4BF6-AC8C-A0D86031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ECB3-3745-4956-AA6B-717501B4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C7BB-E362-491F-816F-1056F7F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A0F-D3E8-4979-BC1E-319F79D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108-F3CA-4C15-8A48-2FDC881B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ABE-8B17-43C7-A74A-1204EAF9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21-0D2B-44F4-832E-6353E55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FA0-AA64-4A46-8331-97EAFB1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28C-27A1-40B0-8651-FAEC8CA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095-F929-45FB-9085-8E8A2B4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92E-DAB2-43A6-A136-1F1E9B68E8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8BE-121F-4209-9CB1-02E88AFFEF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49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BE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软件进展和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Arial"/>
              </a:rPr>
              <a:t>J/</a:t>
            </a:r>
            <a:r>
              <a:rPr b="0" lang="zh-CN" sz="4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物理结果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细黑"/>
                <a:ea typeface="华文细黑"/>
              </a:rPr>
              <a:t>金  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(for BES Collab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国科学院高能物理研究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河南 </a:t>
            </a:r>
            <a:r>
              <a:rPr b="0" lang="zh-CN" sz="1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新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2002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年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11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月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检查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利用                                             等衰变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对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探测器各子系统的模拟进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反复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和调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， 使得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的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重要物理指标和物理变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基本与数据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工作量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52480" y="1752480"/>
                <a:ext cx="4800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ρ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900000" y="4941720"/>
            <a:ext cx="976320" cy="198720"/>
          </a:xfrm>
          <a:prstGeom prst="rightArrow">
            <a:avLst>
              <a:gd name="adj1" fmla="val 50000"/>
              <a:gd name="adj2" fmla="val 1228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Esc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417080" cy="835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08360" y="414972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84464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184464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14972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Error Matrix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42160" cy="525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88000" y="1844640"/>
            <a:ext cx="49716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429000"/>
            <a:ext cx="497160" cy="4395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08464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77336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42900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084640"/>
            <a:ext cx="473040" cy="43524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θ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μ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49228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2492280"/>
            <a:ext cx="473040" cy="43524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</a:rPr>
              <a:t> －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对物理结果的影响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例一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角分布接收度有很大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自旋宇称分析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145200" cy="350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105520" y="2743200"/>
                <a:ext cx="2057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γ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</a:rPr>
              <a:t> －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对物理结果的影响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例二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以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J/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研究为例， 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IM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得到的效率比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OB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得到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低大约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％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影响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BES 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软件的进展对获得正确的物理结果至关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64500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软件进展重点总结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6630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软件中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模拟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rror matr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等问题基本得到解决，从而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发表国际水平高质量的文章打下良好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引进了物理分析优化软件， 建立以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为标准，客 观确定事例选择条件的方法，是物理分析走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细黑"/>
              </a:rPr>
              <a:t>标准化、正规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的重要步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主要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J/</a:t>
            </a:r>
            <a:r>
              <a:rPr b="0" lang="zh-CN" sz="5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物理结果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413000"/>
            <a:ext cx="8591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PWA of                      ,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nhancement near       thresho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n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The measurement of </a:t>
            </a:r>
            <a:r>
              <a:rPr b="0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Arial"/>
              </a:rPr>
              <a:t>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Study of the excited bary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Status of </a:t>
            </a:r>
            <a:r>
              <a:rPr b="0" lang="el-GR" sz="3200" spc="-1" strike="noStrike">
                <a:solidFill>
                  <a:srgbClr val="ff0066"/>
                </a:solidFill>
                <a:latin typeface="Arial"/>
                <a:ea typeface="Arial"/>
              </a:rPr>
              <a:t>ξ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Arial"/>
              </a:rPr>
              <a:t>(22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Upper limit on BR(J/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6128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24000" y="1916280"/>
                <a:ext cx="2374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9280" y="1916280"/>
                <a:ext cx="1224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9320" y="2994120"/>
                <a:ext cx="2047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02160" y="3498840"/>
                <a:ext cx="139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40360" y="2565360"/>
                <a:ext cx="64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420840"/>
            <a:ext cx="777240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orld J/</a:t>
            </a:r>
            <a:r>
              <a:rPr b="0" lang="en-US" sz="36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(2S) Samples  (10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021040"/>
            <a:ext cx="419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J/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202104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2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2666880"/>
          <a:ext cx="41911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66880"/>
                    <a:ext cx="4191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191120" y="2666880"/>
          <a:ext cx="4952880" cy="35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2666880"/>
                    <a:ext cx="495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 txBox="1"/>
          <p:nvPr/>
        </p:nvSpPr>
        <p:spPr>
          <a:xfrm>
            <a:off x="1752480" y="2666880"/>
            <a:ext cx="5335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001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 rot="38400">
            <a:off x="2987280" y="1628640"/>
            <a:ext cx="329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rgest from BES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88000" y="2637000"/>
            <a:ext cx="533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00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物理分析工作目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利用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数据， 获得一批高质量的国际水平的物理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为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BES III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和国际合作培养一批高水平的物理分析队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720" y="4870440"/>
            <a:ext cx="976320" cy="214200"/>
          </a:xfrm>
          <a:prstGeom prst="rightArrow">
            <a:avLst>
              <a:gd name="adj1" fmla="val 50000"/>
              <a:gd name="adj2" fmla="val 1139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7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national Standard/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J/</a:t>
            </a:r>
            <a:r>
              <a:rPr b="0" lang="en-US" sz="4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4005360"/>
            <a:ext cx="854064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6666"/>
                </a:solidFill>
                <a:latin typeface="Comic Sans MS"/>
              </a:rPr>
              <a:t>3-gluon        Electromagnetic      Radiative               Via </a:t>
            </a:r>
            <a:r>
              <a:rPr b="0" lang="zh-CN" sz="2000" spc="-1" strike="noStrike">
                <a:solidFill>
                  <a:srgbClr val="006666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 baseline="-25000">
                <a:solidFill>
                  <a:srgbClr val="006666"/>
                </a:solidFill>
                <a:latin typeface="Comic Sans MS"/>
              </a:rPr>
              <a:t>c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 good lab in studying hadron 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 good lab for excited bary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hunting for glueballs in J/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radiativ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2852640"/>
          <a:ext cx="151308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1513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771640" y="2924280"/>
          <a:ext cx="1511280" cy="79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2924280"/>
                    <a:ext cx="1511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88000" y="2205000"/>
          <a:ext cx="151272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88000" y="2205000"/>
                    <a:ext cx="151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877080" y="2205000"/>
          <a:ext cx="1512720" cy="149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2205000"/>
                    <a:ext cx="15127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620640"/>
          <a:ext cx="352908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35290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900000" y="3213000"/>
          <a:ext cx="2398680" cy="302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3213000"/>
                    <a:ext cx="23986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851280" y="836640"/>
            <a:ext cx="48243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QCD predicts glue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glueballs enhanced in J/</a:t>
            </a:r>
            <a:r>
              <a:rPr b="0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radiativ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LQCD calc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1.5 – 1.7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2.3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mixing of glueball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me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glueball candi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             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885080" y="3645000"/>
                <a:ext cx="457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84720" y="5013360"/>
                <a:ext cx="1396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867280" y="5013360"/>
                <a:ext cx="1397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451640" y="5013360"/>
                <a:ext cx="1282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1341360"/>
            <a:ext cx="74883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WA of                     ,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 B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based on 5.8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0000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J/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Results are preliminar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276720" y="1341360"/>
                <a:ext cx="2879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372360" y="1413000"/>
                <a:ext cx="1295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58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WA of                  and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53920" y="1484280"/>
            <a:ext cx="7966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 very important channel to investigate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BESII prelimi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348000" y="620640"/>
                <a:ext cx="2592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093080" y="620640"/>
                <a:ext cx="1366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76720" y="3124080"/>
            <a:ext cx="3529080" cy="31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87280" y="1916280"/>
                <a:ext cx="163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63640" y="2276640"/>
                <a:ext cx="1152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20880" y="3124080"/>
            <a:ext cx="3506760" cy="31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28800" y="3851280"/>
                <a:ext cx="9144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3600" y="3886200"/>
                <a:ext cx="9144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5076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68920" y="804960"/>
            <a:ext cx="6977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lobal fit and bin-by-bin fit ar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BESII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4000" y="2438280"/>
            <a:ext cx="3887640" cy="372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27640" y="2438280"/>
            <a:ext cx="417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765000"/>
            <a:ext cx="763272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eliminary Result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 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276640"/>
            <a:ext cx="83739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ear                 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idence of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dominant in 1.7GeV mass regi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sses and Widths (statistical error on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2276640"/>
                <a:ext cx="1457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9640" y="4508640"/>
                <a:ext cx="7201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25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18</m:t>
                    </m:r>
                    <m:r>
                      <m:t xml:space="preserve">±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2781360"/>
                <a:ext cx="1465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7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557360"/>
                <a:ext cx="2286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9640" y="5084640"/>
                <a:ext cx="71978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70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6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380880"/>
            <a:ext cx="698508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WA of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24360" y="549360"/>
                <a:ext cx="34560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1" name=""/>
          <p:cNvGrpSpPr/>
          <p:nvPr/>
        </p:nvGrpSpPr>
        <p:grpSpPr>
          <a:xfrm>
            <a:off x="1676520" y="2133720"/>
            <a:ext cx="5905440" cy="4270320"/>
            <a:chOff x="1676520" y="2133720"/>
            <a:chExt cx="5905440" cy="42703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676520" y="2133720"/>
              <a:ext cx="590544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1676520" y="2133720"/>
              <a:ext cx="5905440" cy="427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24480" y="1776240"/>
                <a:ext cx="3071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715000" y="315900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414680" cy="5327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81480" y="2438280"/>
            <a:ext cx="351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ell known f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12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3048120"/>
            <a:ext cx="34941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two 0</a:t>
            </a:r>
            <a:r>
              <a:rPr b="0" lang="zh-CN" sz="2800" spc="-1" strike="noStrike" baseline="30000">
                <a:solidFill>
                  <a:srgbClr val="660066"/>
                </a:solidFill>
                <a:latin typeface="Arial"/>
              </a:rPr>
              <a:t>++’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s at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1.4 and 1.7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mass re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r  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71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838080"/>
            <a:ext cx="4121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(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545080" y="1479600"/>
                <a:ext cx="2627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15000" y="5334120"/>
                <a:ext cx="20574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71640" y="692280"/>
                <a:ext cx="3090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 preliminar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1052640"/>
            <a:ext cx="8675640" cy="21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servation of a enhancement nea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threshold in                    at BESII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based on 5.8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0000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J/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esults are preliminary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55640" y="2349360"/>
                <a:ext cx="609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851280" y="2349360"/>
                <a:ext cx="2362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BES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软件进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Even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 good charged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(isolated from charged trac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C-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14400" y="2438280"/>
                <a:ext cx="762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90720" y="4267080"/>
                <a:ext cx="420372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r>
                          <m:t xml:space="preserve">γ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r>
                          <m:t xml:space="preserve">γ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γ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pp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mass for selected events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5280" y="1600200"/>
          <a:ext cx="6634440" cy="346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344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 rot="10800000">
                <a:off x="1066680" y="815760"/>
                <a:ext cx="33048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62520" y="2514600"/>
                <a:ext cx="1295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4960" y="2579760"/>
                <a:ext cx="124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5181480"/>
            <a:ext cx="6477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4048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12960" y="5259240"/>
            <a:ext cx="6873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4100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32080" y="5173560"/>
            <a:ext cx="634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sides     peak, there is a clear enhancement near thres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048120" y="5257800"/>
                <a:ext cx="368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222120"/>
            <a:ext cx="9067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re these really    and    ’s?  </a:t>
            </a: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(Yes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48520" y="327024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3270240"/>
            <a:ext cx="3124080" cy="358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4920" y="3270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3270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346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3270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08120"/>
            <a:ext cx="29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Tagged p &amp; p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J/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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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25844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Tagged K</a:t>
            </a:r>
            <a:r>
              <a:rPr b="1" lang="en-US" sz="20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&amp; K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J/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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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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2584440"/>
            <a:ext cx="152640" cy="0"/>
          </a:xfrm>
          <a:prstGeom prst="line">
            <a:avLst/>
          </a:prstGeom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422520"/>
            <a:ext cx="152280" cy="0"/>
          </a:xfrm>
          <a:prstGeom prst="line">
            <a:avLst/>
          </a:prstGeom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57516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32764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532764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6511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72744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36511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10280" y="532764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1880" y="51753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124080" y="1289160"/>
            <a:ext cx="3070440" cy="3929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91120" y="83196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1289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289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441440"/>
            <a:ext cx="22860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822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822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342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465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51776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1441440"/>
            <a:ext cx="761760" cy="8380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419720" y="380880"/>
                <a:ext cx="369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10200" y="360360"/>
                <a:ext cx="3906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1680" y="1752480"/>
            <a:ext cx="8540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ain backgrounds remained after selection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ass peak near threshold(almost equal contribu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90720" y="2743200"/>
                <a:ext cx="1600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90720" y="3200400"/>
                <a:ext cx="1752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1066680" y="3733920"/>
          <a:ext cx="4467240" cy="27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733920"/>
                    <a:ext cx="446724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743200" y="3886200"/>
                <a:ext cx="13716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343400" y="3886200"/>
                <a:ext cx="7873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at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927760" y="3397320"/>
            <a:ext cx="260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457200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 clear enhancement near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4800600"/>
            <a:ext cx="457200" cy="104760"/>
          </a:xfrm>
          <a:prstGeom prst="leftArrow">
            <a:avLst>
              <a:gd name="adj1" fmla="val 50000"/>
              <a:gd name="adj2" fmla="val 1091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S-wave Breit-Wigner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66680" y="2286000"/>
                <a:ext cx="7372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∝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600200" y="373392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imes New Roman"/>
              </a:rPr>
              <a:t>q =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aughter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343400"/>
            <a:ext cx="7010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aughter momentum @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5105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Weight the BW function with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mass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1240" y="144792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the enhancement is treated as a reson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057400"/>
            <a:ext cx="519120" cy="104760"/>
          </a:xfrm>
          <a:prstGeom prst="rightArrow">
            <a:avLst>
              <a:gd name="adj1" fmla="val 50000"/>
              <a:gd name="adj2" fmla="val 1238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257800"/>
            <a:ext cx="519120" cy="104760"/>
          </a:xfrm>
          <a:prstGeom prst="rightArrow">
            <a:avLst>
              <a:gd name="adj1" fmla="val 50000"/>
              <a:gd name="adj2" fmla="val 1238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W Fit to the structure near 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ackground shape from                  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eliminary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statistical error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1680" y="2122560"/>
          <a:ext cx="4194000" cy="353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122560"/>
                    <a:ext cx="41940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084400" y="2527200"/>
                <a:ext cx="1773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43600" y="2286000"/>
                <a:ext cx="15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169600" y="4950000"/>
            <a:ext cx="341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istical significanc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486400" y="5486400"/>
                <a:ext cx="609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219640" y="3933720"/>
                <a:ext cx="2921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9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What is it ?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molecular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glue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zh-CN" sz="3200" spc="-1" strike="noStrike">
                <a:solidFill>
                  <a:srgbClr val="800080"/>
                </a:solidFill>
                <a:latin typeface="Arial"/>
              </a:rPr>
              <a:t>why so close to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Dynamical 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zh-CN" sz="3200" spc="-1" strike="noStrike">
                <a:solidFill>
                  <a:srgbClr val="000099"/>
                </a:solidFill>
                <a:latin typeface="Arial"/>
              </a:rPr>
              <a:t>no evidence in         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Searches for other deca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90720" y="1905120"/>
                <a:ext cx="533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96840" y="2438280"/>
                <a:ext cx="495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143000" y="32004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419720" y="3048120"/>
                <a:ext cx="67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143000" y="43434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267080" y="4267080"/>
                <a:ext cx="736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4191120"/>
                <a:ext cx="1003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Ξ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457200" y="5486400"/>
            <a:ext cx="595440" cy="152280"/>
          </a:xfrm>
          <a:custGeom>
            <a:avLst/>
            <a:gdLst>
              <a:gd name="textAreaLeft" fmla="*/ 74160 w 595440"/>
              <a:gd name="textAreaRight" fmla="*/ 521280 w 595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11280" y="380880"/>
            <a:ext cx="7848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Measurement of </a:t>
            </a:r>
            <a:r>
              <a:rPr b="0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zh-CN" sz="3600" spc="-1" strike="noStrike" baseline="-25000">
                <a:solidFill>
                  <a:srgbClr val="ff0000"/>
                </a:solidFill>
                <a:latin typeface="Arial"/>
              </a:rPr>
              <a:t>c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mass and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87280" y="2276640"/>
          <a:ext cx="662472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276640"/>
                    <a:ext cx="662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962440" y="1800360"/>
                <a:ext cx="29476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ss and width of 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1680" y="692280"/>
            <a:ext cx="866304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835                   data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SI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EO (2000) 2-photon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92360" y="765000"/>
                <a:ext cx="165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γ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11280" y="1413000"/>
                <a:ext cx="590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98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8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5640" y="2852640"/>
                <a:ext cx="615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KK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KK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11280" y="3645000"/>
                <a:ext cx="8029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11280" y="5157720"/>
                <a:ext cx="8048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835280" y="69228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1680" y="1052640"/>
            <a:ext cx="79423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ve channels were analyzed with BES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8M J/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600200" y="2362320"/>
          <a:ext cx="5853240" cy="23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362320"/>
                    <a:ext cx="585324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600200" y="4724280"/>
          <a:ext cx="5867280" cy="5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724280"/>
                    <a:ext cx="58672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主要内容</a:t>
            </a:r>
            <a:r>
              <a:rPr b="0" lang="zh-CN" sz="44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基本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对物理结果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重点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bined Likelihood Fi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04920" y="1600200"/>
          <a:ext cx="5790960" cy="48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579096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019920" y="2743200"/>
          <a:ext cx="25905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2743200"/>
                    <a:ext cx="2590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ults with Full Systematic Studi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ystematic errors are mainl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   ◇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Backgroun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   ◇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Mass scale and mass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DG 200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1752480"/>
                <a:ext cx="6286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286000" y="4952880"/>
                <a:ext cx="38797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4000" y="234936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udy of the excited baryon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421000"/>
            <a:ext cx="8540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J/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Symbol"/>
                <a:ea typeface="Symbol"/>
              </a:rPr>
              <a:t>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 decays – good lab. for excited baryon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4437000"/>
            <a:ext cx="417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ynman diagram of the p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2205000"/>
            <a:ext cx="46260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relatively large branching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For            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,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syste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limited to be pure isospin 1/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50920" y="2205000"/>
          <a:ext cx="3889440" cy="20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8894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55640" y="4941720"/>
                <a:ext cx="2413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Ξ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292720" y="3213000"/>
                <a:ext cx="1739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716360" y="3789360"/>
                <a:ext cx="1917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π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16360" y="4292640"/>
                <a:ext cx="787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948360" y="3789360"/>
                <a:ext cx="571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rom BES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4360" y="2060640"/>
          <a:ext cx="3168360" cy="20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31683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500720" y="1989000"/>
            <a:ext cx="419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wo well known N* states 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(1535)S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 = 1530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95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DG: M=152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555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10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0 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(1650)S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 = 1647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0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           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DG: M=152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555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10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0 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4360" y="4149720"/>
          <a:ext cx="316692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149720"/>
                    <a:ext cx="31669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81120" y="547560"/>
                <a:ext cx="335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56080" y="4881600"/>
                <a:ext cx="762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268360" y="177336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/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from BESI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503360" y="2546280"/>
                <a:ext cx="1790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43280" y="2205000"/>
            <a:ext cx="41943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  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WA 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535)(1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520)(3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675)(5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680)(5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55640" y="2205000"/>
          <a:ext cx="3311640" cy="20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205000"/>
                    <a:ext cx="33116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55640" y="4292640"/>
          <a:ext cx="3240000" cy="205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292640"/>
                    <a:ext cx="32400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835280" y="1916280"/>
                <a:ext cx="24336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M</m:t>
                    </m:r>
                    <m:r>
                      <m:rPr>
                        <m:lit/>
                        <m:nor/>
                      </m:rPr>
                      <m:t xml:space="preserve">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11280" y="333360"/>
                <a:ext cx="37065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148360" y="2060640"/>
                <a:ext cx="2379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us of              at B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o far, no clear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              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ll possibl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re still being che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01680" y="2057400"/>
          <a:ext cx="419400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057400"/>
                    <a:ext cx="4194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924360" y="765000"/>
                <a:ext cx="1689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638680" y="2895480"/>
                <a:ext cx="1143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pper limit on BR(J/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 → e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8613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Search for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J/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→ e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events in 58 M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J/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Arial"/>
              </a:rPr>
              <a:t>Efficiency:  9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Background:  from  ee(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), 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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, KK, 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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 final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                          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Total:  5.98 ± 3.71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 candidates are observed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90% C.L. upper limit on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BR(J/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 → e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Systematic errors are taken into account in the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895480" y="4724280"/>
                <a:ext cx="1828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152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2193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WA of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S II 58M        data show strong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                           with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 significant near-threshold       enhancement i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                    at BES II.  If treated as a re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mass and width are measu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505320" y="144792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1905120"/>
                <a:ext cx="990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133720" y="1828800"/>
                <a:ext cx="21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029200" y="1828800"/>
                <a:ext cx="3048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572000" y="2743200"/>
                <a:ext cx="368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066680" y="3200400"/>
                <a:ext cx="14605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908000" y="3716280"/>
                <a:ext cx="4741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896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±</m:t>
                          </m:r>
                          <m:r>
                            <m:t xml:space="preserve">8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905120" y="5105520"/>
                <a:ext cx="5486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Summary (continued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Excited baryon states are studied using P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No clear evidence of </a:t>
            </a:r>
            <a:r>
              <a:rPr b="0" lang="el-GR" sz="2400" spc="-1" strike="noStrike">
                <a:solidFill>
                  <a:srgbClr val="800080"/>
                </a:solidFill>
                <a:latin typeface="Arial"/>
              </a:rPr>
              <a:t>ξ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(2230) was observed in BESII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Checks are still going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Upper limit on BR(J/</a:t>
            </a:r>
            <a:r>
              <a:rPr b="0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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):                          at 90% C.L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05520" y="3940200"/>
                <a:ext cx="137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物理分析工具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(I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以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GEANT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为基础的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Monte Carlo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模拟 软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SIMBES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基本完成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Data/MC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的一致性极大提高。从而为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BES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发表国际水平高质量的文章打下良好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升级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。不仅通过重新刻度， 消除了正负电荷径迹动量重建不对称性，改善了动量分辨，更重要的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消除了各重建平台（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H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之间的差别，使得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为主重建数据成为可能，从而极大提高了数据产生效率。例如，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H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机器上重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8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约需两个月，而现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上重建只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天，满足了物理分析研究多次重建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8591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基础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J/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重建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遍（其中一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 te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是为了研究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华文细黑"/>
              </a:rPr>
              <a:t>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(2230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。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 和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数据各重建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dE/d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O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Shower Coun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作了仔细研究，改进了重建、刻度方法，减小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offse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或提高了分辨率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引进了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SCANJO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物理分析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CUT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优化软件，建立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M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为标准，客观确定事例选择条件的方法，是物理分析走向标准化、正规化的重要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 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</a:rPr>
              <a:t>III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8423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其他工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数据质量研究与刻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按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J/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等物理需要改进了物理事例产生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向刻度的改进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向分辨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提高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软件的日常管理、维护，刻度常数更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中的应用，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I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的软件发展打下良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模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OB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IM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新老版本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探测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  ◇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SOBER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：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Ol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                           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Not GEAN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  ◆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IMBES:   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GEAN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5:23:36Z</dcterms:created>
  <dc:creator>Glueball</dc:creator>
  <dc:description/>
  <dc:language>en-US</dc:language>
  <cp:lastModifiedBy>jins</cp:lastModifiedBy>
  <dcterms:modified xsi:type="dcterms:W3CDTF">2002-10-28T14:09:36Z</dcterms:modified>
  <cp:revision>220</cp:revision>
  <dc:subject/>
  <dc:title>New       Results from BES </dc:title>
</cp:coreProperties>
</file>