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6.png" ContentType="image/png"/>
  <Override PartName="/ppt/media/image24.png" ContentType="image/png"/>
  <Override PartName="/ppt/media/image23.wmf" ContentType="image/x-wmf"/>
  <Override PartName="/ppt/media/image28.jpeg" ContentType="image/jpeg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5.wmf" ContentType="image/x-wmf"/>
  <Override PartName="/ppt/media/image27.jpeg" ContentType="image/jpeg"/>
  <Override PartName="/ppt/media/image31.wmf" ContentType="image/x-wmf"/>
  <Override PartName="/ppt/media/image11.png" ContentType="image/png"/>
  <Override PartName="/ppt/media/image40.jpeg" ContentType="image/jpeg"/>
  <Override PartName="/ppt/media/image13.jpeg" ContentType="image/jpeg"/>
  <Override PartName="/ppt/media/image32.wmf" ContentType="image/x-wmf"/>
  <Override PartName="/ppt/media/image33.png" ContentType="image/png"/>
  <Override PartName="/ppt/media/image8.png" ContentType="image/png"/>
  <Override PartName="/ppt/media/image35.png" ContentType="image/png"/>
  <Override PartName="/ppt/media/image12.wmf" ContentType="image/x-wmf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6.png" ContentType="image/png"/>
  <Override PartName="/ppt/media/image14.wmf" ContentType="image/x-wmf"/>
  <Override PartName="/ppt/media/image38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D4B-A405-4BA5-A9F7-2F163136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603600"/>
            <a:ext cx="84582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9BA-CAC2-4E8D-B714-0191B90B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088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1CA-487D-434B-B24A-65F35B9E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6680" y="83772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6880" y="83772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60360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6680" y="360360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6880" y="360360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49F-2765-4DAA-A809-B84CDC95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84AC-5C61-4854-8956-9847B106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45820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2865-2F8D-4BBB-8715-279381A1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E9EA-F5D1-4599-BEB0-94FF1F7F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EE1C-493E-4C6D-BE68-36029458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9BA9-B234-4F7F-8836-1E99BA3C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2280" y="151920"/>
            <a:ext cx="8479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CE82-457D-46B5-83D9-5F1AA042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FCCA-FC08-4DCB-845B-9FE796AA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45820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BE0-9A05-47CC-AFE5-F864E3F0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088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0B63-28EC-497E-9A70-0B6081B2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603600"/>
            <a:ext cx="84582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F51B-08FB-40DA-97EC-597DBEAB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603600"/>
            <a:ext cx="84582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DEED-90BC-40B6-86AD-C849D4F1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088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CEFF-3C71-42F4-A5FA-4B84E21A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6680" y="83772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6880" y="83772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60360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6680" y="360360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6880" y="3603600"/>
            <a:ext cx="2723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4F0F-3A54-449C-9961-D5D4A62D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282-BCE3-4F29-B96C-66D51D0B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F62-92CA-47EC-8370-65DC1EBD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32F-0261-4F17-905F-18D22C84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12280" y="151920"/>
            <a:ext cx="8479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734-40B7-4C70-AC68-0435D9EB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4AD-0EF2-4922-B1BE-ACC670A0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0880" y="360360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C13-9629-4BB5-AA98-CFD5D54C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2280" y="149760"/>
            <a:ext cx="847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837720"/>
            <a:ext cx="41274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03600"/>
            <a:ext cx="8458200" cy="25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E0D-C708-41E2-AB18-5563413C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2286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4572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858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2280" y="15192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837720"/>
            <a:ext cx="84582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045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962160" y="64008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5345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C723-0167-476E-99B4-F052EDA35B7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04920" y="6095880"/>
            <a:ext cx="0" cy="76212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CFCF-8B7B-4522-9C25-71C811B27DA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Narrow"/>
              </a:rPr>
              <a:t>Spin Physics in High Energy Strong Interaction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 Narrow"/>
              </a:rPr>
              <a:t>Liang Zuo-tang (</a:t>
            </a:r>
            <a:r>
              <a:rPr b="1" lang="zh-CN" sz="3600" spc="-1" strike="noStrike">
                <a:solidFill>
                  <a:srgbClr val="0000cc"/>
                </a:solidFill>
                <a:latin typeface="Arial Narrow"/>
                <a:ea typeface="隶书"/>
              </a:rPr>
              <a:t>梁作堂</a:t>
            </a:r>
            <a:r>
              <a:rPr b="1" lang="zh-CN" sz="3600" spc="-1" strike="noStrike">
                <a:solidFill>
                  <a:srgbClr val="0000cc"/>
                </a:solidFill>
                <a:latin typeface="Arial Narrow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057400"/>
            <a:ext cx="76960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476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 Narrow"/>
              </a:rPr>
              <a:t>Department of Phy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476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 Narrow"/>
              </a:rPr>
              <a:t>School of Physics and Microelectron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476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 Narrow"/>
              </a:rPr>
              <a:t>Shandong 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476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 Narrow"/>
                <a:ea typeface="华文隶书"/>
              </a:rPr>
              <a:t>山东大学  物理与微电子学院  物理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5C0-DF6F-4B58-8B84-19AC3BA5D44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 Narrow"/>
              </a:rPr>
              <a:t>Conclusions/Expec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t seems tha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1486080"/>
            <a:ext cx="6858000" cy="103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sea has a significantly negative polariz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4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t is therefore expected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2984400"/>
            <a:ext cx="7086600" cy="1501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valence quarks are polarized in approximately the way as in the static quark model, but the polarization is cancelled by the se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055-3F0D-4EBD-9132-88C904AE48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4832" t="0" r="4832" b="0"/>
          <a:stretch/>
        </p:blipFill>
        <p:spPr>
          <a:xfrm>
            <a:off x="4572000" y="990720"/>
            <a:ext cx="4406760" cy="31892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 Narrow"/>
              </a:rPr>
              <a:t>Flavor tagging in semi-inclusive D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419720" cy="68580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more “direct” measur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 the leading or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55680" y="2314440"/>
                <a:ext cx="3987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ehX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sSup>
                          <m:e>
                            <m:r>
                              <m:t xml:space="preserve">dσ</m:t>
                            </m:r>
                          </m:e>
                          <m:sup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h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σ</m:t>
                            </m:r>
                          </m:e>
                          <m:sup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h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σ</m:t>
                            </m:r>
                          </m:e>
                          <m:sup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h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σ</m:t>
                            </m:r>
                          </m:e>
                          <m:sup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h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752480" y="2979720"/>
                <a:ext cx="20574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789200" y="3780000"/>
                <a:ext cx="5221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</m:sub>
                      <m:sup/>
                      <m:e>
                        <m:f>
                          <m:num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</m:nary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</m:nary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'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f>
                      <m:num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f>
                      <m:num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04920" y="4724280"/>
                <a:ext cx="9144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295280" y="4724280"/>
            <a:ext cx="6858000" cy="4597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urity, spin independent, calculable using e.g. LEP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04920" y="5267160"/>
                <a:ext cx="434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eπ</m:t>
                            </m:r>
                          </m:e>
                          <m:sup>
                            <m:r>
                              <m:t xml:space="preserve">±</m:t>
                            </m:r>
                          </m:sup>
                        </m:sSup>
                        <m:r>
                          <m:t xml:space="preserve">X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K</m:t>
                            </m:r>
                          </m:e>
                          <m:sup>
                            <m:r>
                              <m:t xml:space="preserve">±</m:t>
                            </m:r>
                          </m:sup>
                        </m:sSup>
                        <m:r>
                          <m:t xml:space="preserve">X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eπ</m:t>
                            </m:r>
                          </m:e>
                          <m:sup>
                            <m:r>
                              <m:t xml:space="preserve">±</m:t>
                            </m:r>
                          </m:sup>
                        </m:sSup>
                        <m:r>
                          <m:t xml:space="preserve">X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04920" y="5791320"/>
                <a:ext cx="35049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Δ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800600" y="5477040"/>
                <a:ext cx="41148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C2E-5D76-418B-9D06-E4FF662ED6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 Narrow"/>
              </a:rPr>
              <a:t>Flavor tagging in semi-inclusive DIS: Purities </a:t>
            </a:r>
            <a:r>
              <a:rPr b="1" i="1" lang="zh-CN" sz="30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1" i="1" lang="zh-CN" sz="3000" spc="-1" strike="noStrike" baseline="-25000">
                <a:solidFill>
                  <a:srgbClr val="333399"/>
                </a:solidFill>
                <a:latin typeface="Arial Narrow"/>
              </a:rPr>
              <a:t>f</a:t>
            </a:r>
            <a:r>
              <a:rPr b="1" i="1" lang="zh-CN" sz="3000" spc="-1" strike="noStrike" baseline="30000">
                <a:solidFill>
                  <a:srgbClr val="333399"/>
                </a:solidFill>
                <a:latin typeface="Arial Narrow"/>
              </a:rPr>
              <a:t>h</a:t>
            </a:r>
            <a:r>
              <a:rPr b="1" i="1" lang="zh-CN" sz="3000" spc="-1" strike="noStrike">
                <a:solidFill>
                  <a:srgbClr val="333399"/>
                </a:solidFill>
                <a:latin typeface="Arial Narrow"/>
              </a:rPr>
              <a:t>(x)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8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400800" cy="5680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553080" y="5029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. Miller, Spin’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3C4-B43C-4445-8FDE-148E67ACEA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Flavor tagging in semi-inclusive DIS: HERMES Resul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1522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1524" r="0" b="762"/>
          <a:stretch/>
        </p:blipFill>
        <p:spPr>
          <a:xfrm>
            <a:off x="141120" y="828720"/>
            <a:ext cx="5040360" cy="6029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029200" y="3429000"/>
            <a:ext cx="3962520" cy="681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is non-negativ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1447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. Miller, Spin’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CBA-D95A-4505-97A6-861C9339C1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1447920"/>
            <a:ext cx="46479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Flavor tagging: Expectation From Future Experimen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7696080" cy="533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COMPASS at CERN: Semi-inclusive DIS at 200 GeV/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4619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HI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447920" y="1523880"/>
                <a:ext cx="2590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±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6" name="" descr=""/>
          <p:cNvPicPr/>
          <p:nvPr/>
        </p:nvPicPr>
        <p:blipFill>
          <a:blip r:embed="rId3"/>
          <a:srcRect l="23178" t="2771" r="12692" b="19395"/>
          <a:stretch/>
        </p:blipFill>
        <p:spPr>
          <a:xfrm>
            <a:off x="5634000" y="1371600"/>
            <a:ext cx="3427560" cy="497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04920" y="2666880"/>
                <a:ext cx="5486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8600" y="3809880"/>
                <a:ext cx="54864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σ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981080" y="5029200"/>
                <a:ext cx="11667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352680" y="5029200"/>
                <a:ext cx="1219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295280" y="5705640"/>
            <a:ext cx="419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uracy can be reached at R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14800" y="4114440"/>
            <a:ext cx="1905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97000" y="2131920"/>
                <a:ext cx="37414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ce    {</m:t>
                    </m:r>
                    <m:r>
                      <m:t xml:space="preserve">u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acc>
                    <m:r>
                      <m:t xml:space="preserve">→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r>
                      <m:t xml:space="preserve">d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acc>
                    <m:r>
                      <m:t xml:space="preserve">→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644-93C4-4757-B47F-6C91B1220E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382240" cy="533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54000" rIns="54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0000"/>
                </a:solidFill>
                <a:latin typeface="Arial Narrow"/>
              </a:rPr>
              <a:t>Puzzling spin effects in </a:t>
            </a:r>
            <a:r>
              <a:rPr b="1" i="1" lang="zh-CN" sz="3900" spc="-1" strike="noStrike">
                <a:solidFill>
                  <a:srgbClr val="ff0000"/>
                </a:solidFill>
                <a:latin typeface="Arial Narrow"/>
              </a:rPr>
              <a:t>hh</a:t>
            </a:r>
            <a:r>
              <a:rPr b="1" lang="zh-CN" sz="3900" spc="-1" strike="noStrike">
                <a:solidFill>
                  <a:srgbClr val="ff0000"/>
                </a:solidFill>
                <a:latin typeface="Arial Narrow"/>
              </a:rPr>
              <a:t> or </a:t>
            </a:r>
            <a:r>
              <a:rPr b="1" i="1" lang="zh-CN" sz="3900" spc="-1" strike="noStrike">
                <a:solidFill>
                  <a:srgbClr val="ff0000"/>
                </a:solidFill>
                <a:latin typeface="Arial Narrow"/>
              </a:rPr>
              <a:t>hA</a:t>
            </a:r>
            <a:r>
              <a:rPr b="1" lang="zh-CN" sz="3900" spc="-1" strike="noStrike">
                <a:solidFill>
                  <a:srgbClr val="ff0000"/>
                </a:solidFill>
                <a:latin typeface="Arial Narrow"/>
              </a:rPr>
              <a:t> collisions 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 Narrow"/>
              </a:rPr>
              <a:t>Three major typ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600200"/>
            <a:ext cx="8458200" cy="111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ft-right asymmetry in inclusive production in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h-h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llisions with transversely polarized beams or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895480"/>
            <a:ext cx="8458200" cy="1117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) Transverse hyperon polarization in unpolarized </a:t>
            </a: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h-h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h-A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4267080"/>
            <a:ext cx="8458200" cy="60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)  Spin asymmetries in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p-p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elastic scattering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7CC-8EBB-4BC1-A2BF-787EF6DD5F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352680" y="990720"/>
            <a:ext cx="5639040" cy="350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5867280" cy="3030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5728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ingle Spin Left-Right Asymmetr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1981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Narrow"/>
                <a:ea typeface="仿宋_GB2312"/>
              </a:rPr>
              <a:t>Definition: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  <a:ea typeface="仿宋_GB2312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2117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200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Incident 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26510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produced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76920" y="3657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The produ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17524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Nomal of the produ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2720" y="1371600"/>
            <a:ext cx="53316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24680" y="3124080"/>
            <a:ext cx="9907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05920" y="2133720"/>
            <a:ext cx="53316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04920" y="2133720"/>
                <a:ext cx="247320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↑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↑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↑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↑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↑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↓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↑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↓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28600" y="1447920"/>
                <a:ext cx="3124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2041560" y="1316160"/>
            <a:ext cx="359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3962520"/>
            <a:ext cx="7621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684520" y="4572000"/>
                <a:ext cx="1582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743200" y="5105520"/>
            <a:ext cx="6248520" cy="76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</a:rPr>
              <a:t>the produced hadron has a large probability to “go left” if the incident proton is upwards polariz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914400" y="4510080"/>
                <a:ext cx="990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905120" y="464832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4572000"/>
            <a:ext cx="213372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ype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14400" y="5029200"/>
                <a:ext cx="990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905120" y="5181480"/>
            <a:ext cx="761760" cy="15264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F2C-FB3F-4E54-8B9C-3EA38E2A083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280" y="838080"/>
            <a:ext cx="8839440" cy="556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956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ingle Spin Left-Right Asymmetr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Experimental Resul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rcRect l="5968" t="43845" r="40586" b="8150"/>
          <a:stretch/>
        </p:blipFill>
        <p:spPr>
          <a:xfrm>
            <a:off x="355680" y="1523880"/>
            <a:ext cx="3473280" cy="4419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3979" t="42999" r="35015" b="8150"/>
          <a:stretch/>
        </p:blipFill>
        <p:spPr>
          <a:xfrm>
            <a:off x="4038480" y="914400"/>
            <a:ext cx="2325960" cy="2635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rcRect l="3979" t="42999" r="38198" b="8431"/>
          <a:stretch/>
        </p:blipFill>
        <p:spPr>
          <a:xfrm>
            <a:off x="6467400" y="914400"/>
            <a:ext cx="2219400" cy="26398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267080" y="3809880"/>
            <a:ext cx="4343400" cy="2566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99"/>
                </a:solidFill>
                <a:latin typeface="Arial Narrow"/>
              </a:rPr>
              <a:t>A</a:t>
            </a:r>
            <a:r>
              <a:rPr b="1" i="1" lang="zh-CN" sz="2400" spc="-1" strike="noStrike" baseline="-25000">
                <a:solidFill>
                  <a:srgbClr val="333399"/>
                </a:solidFill>
                <a:latin typeface="Arial Narrow"/>
              </a:rPr>
              <a:t>N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 is non-zero for larger </a:t>
            </a:r>
            <a:r>
              <a:rPr b="1" i="1" lang="zh-CN" sz="2400" spc="-1" strike="noStrike">
                <a:solidFill>
                  <a:srgbClr val="333399"/>
                </a:solidFill>
                <a:latin typeface="Arial Narrow"/>
              </a:rPr>
              <a:t>x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Arial Narrow"/>
              </a:rPr>
              <a:t>F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 and moderate </a:t>
            </a:r>
            <a:r>
              <a:rPr b="1" i="1" lang="zh-CN" sz="24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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99"/>
                </a:solidFill>
                <a:latin typeface="Arial Narrow"/>
              </a:rPr>
              <a:t>A</a:t>
            </a:r>
            <a:r>
              <a:rPr b="1" i="1" lang="zh-CN" sz="2400" spc="-1" strike="noStrike" baseline="-25000">
                <a:solidFill>
                  <a:srgbClr val="333399"/>
                </a:solidFill>
                <a:latin typeface="Arial Narrow"/>
              </a:rPr>
              <a:t>N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 depends on the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flavor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 of the produced had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99"/>
                </a:solidFill>
                <a:latin typeface="Arial Narrow"/>
              </a:rPr>
              <a:t>A</a:t>
            </a:r>
            <a:r>
              <a:rPr b="1" i="1" lang="zh-CN" sz="2400" spc="-1" strike="noStrike" baseline="-25000">
                <a:solidFill>
                  <a:srgbClr val="333399"/>
                </a:solidFill>
                <a:latin typeface="Arial Narrow"/>
              </a:rPr>
              <a:t>N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 depends on the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flavor</a:t>
            </a:r>
            <a:r>
              <a:rPr b="1" lang="zh-CN" sz="2400" spc="-1" strike="noStrike">
                <a:solidFill>
                  <a:srgbClr val="333399"/>
                </a:solidFill>
                <a:latin typeface="Arial Narrow"/>
              </a:rPr>
              <a:t> of the polarized incident had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CD1-72DC-4CDA-86DA-2691BE0F09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990720"/>
            <a:ext cx="5639040" cy="350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rcRect l="1885" t="11669" r="1885" b="10372"/>
          <a:stretch/>
        </p:blipFill>
        <p:spPr>
          <a:xfrm>
            <a:off x="3308400" y="1771560"/>
            <a:ext cx="5683320" cy="23432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 Narrow"/>
              </a:rPr>
              <a:t>Hyperon Polarization in Unpolarized </a:t>
            </a:r>
            <a:r>
              <a:rPr b="1" i="1" lang="zh-CN" sz="3000" spc="-1" strike="noStrike">
                <a:solidFill>
                  <a:srgbClr val="333399"/>
                </a:solidFill>
                <a:latin typeface="Arial Narrow"/>
              </a:rPr>
              <a:t>h-h</a:t>
            </a:r>
            <a:r>
              <a:rPr b="1" lang="zh-CN" sz="3000" spc="-1" strike="noStrike">
                <a:solidFill>
                  <a:srgbClr val="333399"/>
                </a:solidFill>
                <a:latin typeface="Arial Narrow"/>
              </a:rPr>
              <a:t> Collisions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Narrow"/>
                <a:ea typeface="仿宋_GB2312"/>
              </a:rPr>
              <a:t>Definition: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  <a:ea typeface="仿宋_GB2312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200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Incident 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640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510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produced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3657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The produ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18129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Nomal of the produ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62720" y="1371600"/>
            <a:ext cx="53316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24680" y="3124080"/>
            <a:ext cx="9907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05920" y="2209680"/>
            <a:ext cx="53316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914400" y="1905120"/>
                <a:ext cx="24289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914400" y="1411200"/>
                <a:ext cx="23623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Λ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7543800" y="3962520"/>
            <a:ext cx="7621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819520" y="4648320"/>
                <a:ext cx="19047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410080" y="1828800"/>
                <a:ext cx="381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914400" y="2844720"/>
                <a:ext cx="1967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↑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/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↓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990720" y="4638600"/>
                <a:ext cx="914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905120" y="480060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4648320"/>
            <a:ext cx="213372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ype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990720" y="5192640"/>
                <a:ext cx="914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905120" y="533412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5181480"/>
            <a:ext cx="4648320" cy="825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produce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upwards polar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it is “going lef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2E2-3839-47FD-B651-55CC6E00EA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52280" y="838080"/>
            <a:ext cx="8839440" cy="556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956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 Narrow"/>
              </a:rPr>
              <a:t>Hyperon Polarization in Unpolarized </a:t>
            </a:r>
            <a:r>
              <a:rPr b="1" i="1" lang="zh-CN" sz="3000" spc="-1" strike="noStrike">
                <a:solidFill>
                  <a:srgbClr val="333399"/>
                </a:solidFill>
                <a:latin typeface="Arial Narrow"/>
              </a:rPr>
              <a:t>h-h</a:t>
            </a:r>
            <a:r>
              <a:rPr b="1" lang="zh-CN" sz="3000" spc="-1" strike="noStrike">
                <a:solidFill>
                  <a:srgbClr val="333399"/>
                </a:solidFill>
                <a:latin typeface="Arial Narrow"/>
              </a:rPr>
              <a:t> Collisions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仿宋_GB2312"/>
              </a:rPr>
              <a:t>Experimental Resul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80880" y="1295280"/>
            <a:ext cx="3886200" cy="27338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648320" y="990720"/>
            <a:ext cx="373356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rcRect l="0" t="25485" r="0" b="0"/>
          <a:stretch/>
        </p:blipFill>
        <p:spPr>
          <a:xfrm>
            <a:off x="4114800" y="3254400"/>
            <a:ext cx="4876920" cy="21556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248520" y="3092400"/>
            <a:ext cx="2819160" cy="71748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in 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p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X, compared with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in p+p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5"/>
          <a:srcRect l="6135" t="7966" r="6902" b="1062"/>
          <a:stretch/>
        </p:blipFill>
        <p:spPr>
          <a:xfrm>
            <a:off x="380880" y="3809880"/>
            <a:ext cx="3429000" cy="2589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495680" y="5486400"/>
            <a:ext cx="4267440" cy="1031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same characterist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s those for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48520" y="730080"/>
            <a:ext cx="2819160" cy="71748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i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p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X, compared with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in p+p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A5D-A4EA-405E-9500-0D3B8A4DA4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H="1">
            <a:off x="4647960" y="3505320"/>
            <a:ext cx="2057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48360" y="1828800"/>
            <a:ext cx="75960" cy="2133720"/>
          </a:xfrm>
          <a:prstGeom prst="line">
            <a:avLst/>
          </a:prstGeom>
          <a:ln w="76320">
            <a:solidFill>
              <a:srgbClr val="66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71640" y="1828800"/>
            <a:ext cx="2057400" cy="4038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Spin Physics in Strong Interac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43040" y="990720"/>
            <a:ext cx="4800600" cy="838080"/>
          </a:xfrm>
          <a:prstGeom prst="rect">
            <a:avLst/>
          </a:prstGeom>
          <a:solidFill>
            <a:srgbClr val="12d21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Spin structure of hadr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(Hunting for the origins of proton sp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438280"/>
            <a:ext cx="3048120" cy="137376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riking spin effects in high energy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h-h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h-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308320"/>
            <a:ext cx="4572000" cy="1191240"/>
          </a:xfrm>
          <a:prstGeom prst="rect">
            <a:avLst/>
          </a:prstGeom>
          <a:solidFill>
            <a:srgbClr val="12d21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Searching for the origins of the puzzling spin effects in </a:t>
            </a:r>
            <a:r>
              <a:rPr b="1" i="1" lang="en-US" sz="2400" spc="-1" strike="noStrike">
                <a:solidFill>
                  <a:srgbClr val="0000cc"/>
                </a:solidFill>
                <a:latin typeface="Arial Narrow"/>
              </a:rPr>
              <a:t>h-h</a:t>
            </a: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 or </a:t>
            </a:r>
            <a:r>
              <a:rPr b="1" i="1" lang="en-US" sz="2400" spc="-1" strike="noStrike">
                <a:solidFill>
                  <a:srgbClr val="0000cc"/>
                </a:solidFill>
                <a:latin typeface="Arial Narrow"/>
              </a:rPr>
              <a:t>h-A</a:t>
            </a: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 collision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3886200"/>
            <a:ext cx="4724280" cy="1191240"/>
          </a:xfrm>
          <a:prstGeom prst="rect">
            <a:avLst/>
          </a:prstGeom>
          <a:solidFill>
            <a:srgbClr val="12d21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Spin effects in fragment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(Spin dependence of the fragmentation fun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447920"/>
            <a:ext cx="114300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200400" y="2895120"/>
            <a:ext cx="1143000" cy="3049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429000"/>
            <a:ext cx="1295280" cy="9907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981080"/>
            <a:ext cx="1600200" cy="1981440"/>
          </a:xfrm>
          <a:prstGeom prst="line">
            <a:avLst/>
          </a:prstGeom>
          <a:ln w="57240">
            <a:solidFill>
              <a:srgbClr val="66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200400" y="1828440"/>
            <a:ext cx="1143000" cy="1143000"/>
          </a:xfrm>
          <a:prstGeom prst="line">
            <a:avLst/>
          </a:prstGeom>
          <a:ln w="57240">
            <a:solidFill>
              <a:srgbClr val="66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765760"/>
            <a:ext cx="8762760" cy="550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Structure of Hadron and Properties of Strong Intera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1640" y="5105520"/>
            <a:ext cx="21337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62920" y="3505320"/>
            <a:ext cx="0" cy="457200"/>
          </a:xfrm>
          <a:prstGeom prst="line">
            <a:avLst/>
          </a:prstGeom>
          <a:ln w="76320">
            <a:solidFill>
              <a:srgbClr val="66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143000"/>
            <a:ext cx="3048120" cy="94716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ton Spin Crisi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B0D-8847-4B98-95AF-228DDC583F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76720" y="990720"/>
            <a:ext cx="563868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rcRect l="0" t="6483" r="3769" b="0"/>
          <a:stretch/>
        </p:blipFill>
        <p:spPr>
          <a:xfrm>
            <a:off x="3413160" y="1557360"/>
            <a:ext cx="5502240" cy="2590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Spin Asymmetries in pp Elastic Scatter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Narrow"/>
                <a:ea typeface="仿宋_GB2312"/>
              </a:rPr>
              <a:t>Definitions: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  <a:ea typeface="仿宋_GB2312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3032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Incident 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10080" y="30481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00800" y="2438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scattered beam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24280" y="34290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The scattering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18129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Nomal of the scattering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371600"/>
            <a:ext cx="53316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001000" y="2819520"/>
            <a:ext cx="9907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458200" y="2286000"/>
            <a:ext cx="5335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04920" y="2895480"/>
                <a:ext cx="2136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≡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04920" y="2362320"/>
                <a:ext cx="2690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7620120" y="3505320"/>
            <a:ext cx="76176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仿宋_GB2312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895480" y="4876920"/>
                <a:ext cx="1720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410080" y="1828800"/>
                <a:ext cx="381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914400" y="4800600"/>
                <a:ext cx="809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828800" y="49528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4876920"/>
            <a:ext cx="213372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ype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66960" y="5602320"/>
                <a:ext cx="8092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1905120" y="571500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5562720"/>
            <a:ext cx="5638680" cy="825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proton is more likely to be scattered to the left if the target is upwards polar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3124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  <a:ea typeface="仿宋_GB2312"/>
              </a:rPr>
              <a:t>scattered targe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4191120"/>
            <a:ext cx="5105520" cy="4597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ward detector is on the left-hand-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1447920"/>
            <a:ext cx="2819520" cy="8863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E.G., spin analysing power A in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DF5-09A0-47AB-830B-F630F7FA308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876920" y="838080"/>
            <a:ext cx="3962160" cy="556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1219320"/>
            <a:ext cx="4038480" cy="5105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Spin Asymmetries in </a:t>
            </a: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pp</a:t>
            </a: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 Elastic Scatter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Narrow"/>
                <a:ea typeface="仿宋_GB2312"/>
              </a:rPr>
              <a:t>Experimental resul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rcRect l="16863" t="0" r="11242" b="15273"/>
          <a:stretch/>
        </p:blipFill>
        <p:spPr>
          <a:xfrm>
            <a:off x="490680" y="1981080"/>
            <a:ext cx="3547800" cy="4191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5181480" y="137160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5105520" y="4038480"/>
            <a:ext cx="3504960" cy="23162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762120" y="1447920"/>
            <a:ext cx="28954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n p+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+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181480" y="905040"/>
                <a:ext cx="2743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DF3-C5D1-4882-850E-B84D78152E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Why they are so interesting?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1) The experiments are conceptually simple but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bserved effects are strik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2743200"/>
            <a:ext cx="72392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=0 for the pQCD-calculable elementary process such as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+q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q+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Such type of correlation is forbidden in the leading twist parton distribu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2362320"/>
            <a:ext cx="3429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E.g., for 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=(PDF)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(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828800"/>
            <a:ext cx="76960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2) Cannot be reproduced in the leading twis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4343400"/>
            <a:ext cx="7543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(3) Our knowledge about transversity is poor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4957920"/>
            <a:ext cx="7543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(4) Possible applications: polarimeter etc.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352680" y="6095880"/>
                <a:ext cx="19526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↑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990720" y="6095880"/>
                <a:ext cx="1942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↓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715000" y="6095880"/>
                <a:ext cx="25909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</m:sub>
                    </m:sSub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288-D9D0-4C78-968E-AE2F072CBF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990720" y="1295280"/>
            <a:ext cx="800100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4114800"/>
            <a:ext cx="853452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5715000"/>
            <a:ext cx="609588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1828800"/>
            <a:ext cx="4648320" cy="83808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5105520"/>
            <a:ext cx="609588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9560" y="228600"/>
            <a:ext cx="820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ingle Spin Left-Right Asymmetr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Implication of the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Narrow"/>
                <a:ea typeface="仿宋_GB2312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638680" y="1828800"/>
                <a:ext cx="205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47920" y="5156280"/>
                <a:ext cx="19047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447920" y="5715000"/>
                <a:ext cx="1904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↓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3520" y="4290840"/>
                <a:ext cx="130644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752480" y="4343400"/>
            <a:ext cx="40388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only in the large 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region, wher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791320" y="4343400"/>
                <a:ext cx="18288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7620120" y="4343400"/>
            <a:ext cx="129528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min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633840" y="5164200"/>
                <a:ext cx="1776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633840" y="5715000"/>
                <a:ext cx="1776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788080" y="5127480"/>
                <a:ext cx="14508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830920" y="5715000"/>
                <a:ext cx="1523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4114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2209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has a large probability to “go lef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6680" y="1295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mple analysis sh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66680" y="1828800"/>
            <a:ext cx="2971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ata implie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2743200"/>
            <a:ext cx="6705720" cy="82548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left-right asymmetry for such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M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 is denoted by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=0.6 from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565-A2E1-4EE8-B35A-80C11D580F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33520" y="914400"/>
            <a:ext cx="838188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ossibilities which can give rise to non-zero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152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1001880"/>
            <a:ext cx="822960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symmetry in the parton distributions (Sivers’ effect, 1992; Anselmino et al., 1995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symmetric fragmentation functions (Collins’ effect, 199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Orbital angular momentum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“surface effect” (Boros, Liang, Meng, 199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Twist three effects (Qiu, Sterman, 1991, 1999; Efremov et al.,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Initial/final state interaction (Brodsky et al.,200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C86-CACD-400C-8BE1-7773CC1982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 flipH="1">
            <a:off x="2437920" y="2057400"/>
            <a:ext cx="2514600" cy="2133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3962520"/>
            <a:ext cx="449568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1447920"/>
            <a:ext cx="807732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56920" y="228600"/>
            <a:ext cx="5157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Correlation of </a:t>
            </a: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1" i="1" lang="en-US" sz="3600" spc="-1" strike="noStrike" baseline="-25000">
                <a:solidFill>
                  <a:srgbClr val="333399"/>
                </a:solidFill>
                <a:latin typeface="Arial Narrow"/>
              </a:rPr>
              <a:t>H</a:t>
            </a: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 and </a:t>
            </a: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A</a:t>
            </a:r>
            <a:r>
              <a:rPr b="1" i="1" lang="en-US" sz="3600" spc="-1" strike="noStrike" baseline="-25000">
                <a:solidFill>
                  <a:srgbClr val="333399"/>
                </a:solidFill>
                <a:latin typeface="Arial Narrow"/>
              </a:rPr>
              <a:t>N </a:t>
            </a: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?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仿宋_GB2312"/>
              </a:rPr>
              <a:t>Data for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  <a:ea typeface="仿宋_GB2312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仿宋_GB2312"/>
              </a:rPr>
              <a:t> in p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仿宋_GB2312"/>
              </a:rPr>
              <a:t>)+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仿宋_GB2312"/>
              </a:rPr>
              <a:t> +X shows th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3049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Liang &amp; Boros, PRL(199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144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2438280" y="1523880"/>
                <a:ext cx="2052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4419720" y="1523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has a large probability to “go lef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23004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pply it to, e.g.,  p+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ungsuhChe"/>
                <a:ea typeface="GungsuhChe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+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90720" y="28195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fragmentation reg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mes predominately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181480" y="3276720"/>
                <a:ext cx="19177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762120" y="3962520"/>
            <a:ext cx="144756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o lef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843280" y="403848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3400" y="4038480"/>
                <a:ext cx="1409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5715000" y="388620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versely polarize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7585200" y="3900600"/>
                <a:ext cx="11746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220968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41911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5181480"/>
            <a:ext cx="4267440" cy="459720"/>
          </a:xfrm>
          <a:prstGeom prst="rect">
            <a:avLst/>
          </a:prstGeom>
          <a:solidFill>
            <a:srgbClr val="12d21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(6) wave function of the bar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962520" y="4267080"/>
            <a:ext cx="0" cy="9144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97B-095E-4655-BE9C-4878F4EE97E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56920" y="228600"/>
            <a:ext cx="5157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Correlation of </a:t>
            </a: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1" i="1" lang="en-US" sz="3600" spc="-1" strike="noStrike" baseline="-25000">
                <a:solidFill>
                  <a:srgbClr val="333399"/>
                </a:solidFill>
                <a:latin typeface="Arial Narrow"/>
              </a:rPr>
              <a:t>H</a:t>
            </a: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 and </a:t>
            </a: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A</a:t>
            </a:r>
            <a:r>
              <a:rPr b="1" i="1" lang="en-US" sz="3600" spc="-1" strike="noStrike" baseline="-25000">
                <a:solidFill>
                  <a:srgbClr val="333399"/>
                </a:solidFill>
                <a:latin typeface="Arial Narrow"/>
              </a:rPr>
              <a:t>N </a:t>
            </a: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?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4191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rect Consequen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2152800"/>
            <a:ext cx="7924680" cy="118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76280" indent="-476280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2890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(K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 Narrow"/>
              </a:rPr>
              <a:t>-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p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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X)&gt;0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2890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|P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(K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 Narrow"/>
              </a:rPr>
              <a:t>-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p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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X)|&gt; P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(p+p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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X)|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3049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Liang &amp; Boros, PRL(199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5486400"/>
            <a:ext cx="8381880" cy="550800"/>
          </a:xfrm>
          <a:prstGeom prst="rect">
            <a:avLst/>
          </a:prstGeom>
          <a:solidFill>
            <a:srgbClr val="12d21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They are all in good agreement with the available data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1476360"/>
            <a:ext cx="7924680" cy="62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76280" indent="-476280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2890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 Narrow"/>
              </a:rPr>
              <a:t>-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p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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+X)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3371760"/>
            <a:ext cx="8001000" cy="1047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76280" indent="-476280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2890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 Narrow"/>
              </a:rPr>
              <a:t>No significant transverse hyperon polarization in e</a:t>
            </a:r>
            <a:r>
              <a:rPr b="1" lang="zh-CN" sz="3200" spc="-1" strike="noStrike" baseline="30000">
                <a:solidFill>
                  <a:srgbClr val="333399"/>
                </a:solidFill>
                <a:latin typeface="Arial Narrow"/>
              </a:rPr>
              <a:t>+</a:t>
            </a:r>
            <a:r>
              <a:rPr b="1" lang="zh-CN" sz="3200" spc="-1" strike="noStrike">
                <a:solidFill>
                  <a:srgbClr val="333399"/>
                </a:solidFill>
                <a:latin typeface="Arial Narrow"/>
              </a:rPr>
              <a:t>e</a:t>
            </a:r>
            <a:r>
              <a:rPr b="1" lang="zh-CN" sz="3200" spc="-1" strike="noStrike" baseline="30000">
                <a:solidFill>
                  <a:srgbClr val="333399"/>
                </a:solidFill>
                <a:latin typeface="Arial Narrow"/>
              </a:rPr>
              <a:t>- </a:t>
            </a:r>
            <a:r>
              <a:rPr b="1" lang="zh-CN" sz="3200" spc="-1" strike="noStrike">
                <a:solidFill>
                  <a:srgbClr val="333399"/>
                </a:solidFill>
                <a:latin typeface="Arial Narrow"/>
              </a:rPr>
              <a:t>or unpolarized DIS scatte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4621320"/>
            <a:ext cx="7925040" cy="559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76280" indent="-476280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2890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… … …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864-3C7E-40D4-9754-C5D7414D53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90720" y="4876920"/>
            <a:ext cx="792468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880" y="1447920"/>
            <a:ext cx="716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ider the fragmentation process:</a:t>
            </a:r>
            <a:r>
              <a:rPr b="1" lang="en-US" sz="2400" spc="-1" strike="noStrike">
                <a:solidFill>
                  <a:srgbClr val="80008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 Narrow"/>
              </a:rPr>
              <a:t>f</a:t>
            </a:r>
            <a:r>
              <a:rPr b="1" i="1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800080"/>
                </a:solidFill>
                <a:latin typeface="Arial Narrow"/>
              </a:rPr>
              <a:t>h+X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 study</a:t>
            </a:r>
            <a:r>
              <a:rPr b="1" i="1" lang="en-US" sz="2400" spc="-1" strike="noStrike">
                <a:solidFill>
                  <a:srgbClr val="800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533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 Narrow"/>
              </a:rPr>
              <a:t>Spin effects in fragmentation processes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 Narrow"/>
              </a:rPr>
              <a:t>The following two aspe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4419720"/>
            <a:ext cx="8077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wo Questions in connection with spin transfer in frag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5562720"/>
            <a:ext cx="7086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i) Will </a:t>
            </a:r>
            <a:r>
              <a:rPr b="1" i="1" lang="en-US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 Narrow"/>
              </a:rPr>
              <a:t>f</a:t>
            </a: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eep the polar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ii)Relation between the polarization of </a:t>
            </a:r>
            <a:r>
              <a:rPr b="1" i="1" lang="en-US" sz="2400" spc="-1" strike="noStrike">
                <a:solidFill>
                  <a:srgbClr val="660066"/>
                </a:solidFill>
                <a:latin typeface="Arial Narrow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that of </a:t>
            </a:r>
            <a:r>
              <a:rPr b="1" i="1" lang="en-US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 Narrow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2895480"/>
            <a:ext cx="8381880" cy="1355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2. Dependence of the momentum distributions of </a:t>
            </a:r>
            <a:r>
              <a:rPr b="1" i="1" lang="zh-CN" sz="2400" spc="-1" strike="noStrike">
                <a:solidFill>
                  <a:srgbClr val="800080"/>
                </a:solidFill>
                <a:latin typeface="Arial Narrow"/>
              </a:rPr>
              <a:t>h </a:t>
            </a: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on the spin of </a:t>
            </a:r>
            <a:r>
              <a:rPr b="1" i="1" lang="zh-CN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zh-CN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zh-CN" sz="2400" spc="-1" strike="noStrike" baseline="-25000">
                <a:solidFill>
                  <a:srgbClr val="660066"/>
                </a:solidFill>
                <a:latin typeface="Arial Narrow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--- Azimuthal angle dependence of </a:t>
            </a:r>
            <a:r>
              <a:rPr b="1" i="1" lang="zh-CN" sz="2000" spc="-1" strike="noStrike">
                <a:solidFill>
                  <a:srgbClr val="660066"/>
                </a:solidFill>
                <a:latin typeface="Arial Narrow"/>
              </a:rPr>
              <a:t>h</a:t>
            </a:r>
            <a:r>
              <a:rPr b="1" i="1" lang="zh-CN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when </a:t>
            </a:r>
            <a:r>
              <a:rPr b="1" i="1" lang="zh-CN" sz="20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zh-CN" sz="20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zh-CN" sz="2000" spc="-1" strike="noStrike" baseline="-25000">
                <a:solidFill>
                  <a:srgbClr val="660066"/>
                </a:solidFill>
                <a:latin typeface="Arial Narrow"/>
              </a:rPr>
              <a:t>f </a:t>
            </a:r>
            <a:r>
              <a:rPr b="1" i="1" lang="zh-CN" sz="20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is transversely polariz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-- Jet Handedness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when </a:t>
            </a:r>
            <a:r>
              <a:rPr b="1" i="1" lang="zh-CN" sz="20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zh-CN" sz="20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zh-CN" sz="2000" spc="-1" strike="noStrike" baseline="-25000">
                <a:solidFill>
                  <a:srgbClr val="660066"/>
                </a:solidFill>
                <a:latin typeface="Arial Narrow"/>
              </a:rPr>
              <a:t>f </a:t>
            </a:r>
            <a:r>
              <a:rPr b="1" i="1" lang="zh-CN" sz="20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is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ngitudinally polarized.</a:t>
            </a:r>
            <a:r>
              <a:rPr b="1" lang="zh-CN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905120"/>
            <a:ext cx="8381880" cy="87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1. Dependence of the polarization of </a:t>
            </a:r>
            <a:r>
              <a:rPr b="1" i="1" lang="en-US" sz="2400" spc="-1" strike="noStrike">
                <a:solidFill>
                  <a:srgbClr val="660066"/>
                </a:solidFill>
                <a:latin typeface="Arial Narrow"/>
              </a:rPr>
              <a:t>h</a:t>
            </a: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 on the spin of </a:t>
            </a:r>
            <a:r>
              <a:rPr b="1" i="1" lang="en-US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 Narrow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-- Spin transfer in high energy fragment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4816440"/>
            <a:ext cx="7086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 Narrow"/>
              </a:rPr>
              <a:t>Consider </a:t>
            </a:r>
            <a:r>
              <a:rPr b="1" i="1" lang="zh-CN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zh-CN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zh-CN" sz="2400" spc="-1" strike="noStrike" baseline="-25000">
                <a:solidFill>
                  <a:srgbClr val="660066"/>
                </a:solidFill>
                <a:latin typeface="Arial Narrow"/>
              </a:rPr>
              <a:t>f</a:t>
            </a:r>
            <a:r>
              <a:rPr b="1" i="1" lang="zh-CN" sz="2400" spc="-1" strike="noStrike">
                <a:solidFill>
                  <a:srgbClr val="800080"/>
                </a:solidFill>
                <a:latin typeface="Symbol"/>
                <a:ea typeface="Symbol"/>
              </a:rPr>
              <a:t></a:t>
            </a:r>
            <a:r>
              <a:rPr b="1" i="1" lang="zh-CN" sz="2400" spc="-1" strike="noStrike">
                <a:solidFill>
                  <a:srgbClr val="800080"/>
                </a:solidFill>
                <a:latin typeface="Arial Narrow"/>
              </a:rPr>
              <a:t>h(</a:t>
            </a:r>
            <a:r>
              <a:rPr b="1" i="1" lang="zh-CN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zh-CN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zh-CN" sz="2400" spc="-1" strike="noStrike" baseline="-25000">
                <a:solidFill>
                  <a:srgbClr val="660066"/>
                </a:solidFill>
                <a:latin typeface="Arial Narrow"/>
              </a:rPr>
              <a:t>f</a:t>
            </a:r>
            <a:r>
              <a:rPr b="1" i="1" lang="zh-CN" sz="2400" spc="-1" strike="noStrike">
                <a:solidFill>
                  <a:srgbClr val="800080"/>
                </a:solidFill>
                <a:latin typeface="Arial Narrow"/>
              </a:rPr>
              <a:t> …)+X</a:t>
            </a:r>
            <a:r>
              <a:rPr b="1" lang="zh-CN" sz="2400" spc="-1" strike="noStrike">
                <a:solidFill>
                  <a:srgbClr val="0000ff"/>
                </a:solidFill>
                <a:latin typeface="Arial Narrow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 Narrow"/>
              </a:rPr>
              <a:t>suppose </a:t>
            </a:r>
            <a:r>
              <a:rPr b="1" i="1" lang="zh-CN" sz="2400" spc="-1" strike="noStrike">
                <a:solidFill>
                  <a:srgbClr val="660066"/>
                </a:solidFill>
                <a:latin typeface="Arial Narrow"/>
              </a:rPr>
              <a:t>q</a:t>
            </a:r>
            <a:r>
              <a:rPr b="1" i="1" lang="zh-CN" sz="2400" spc="-1" strike="noStrike" baseline="30000">
                <a:solidFill>
                  <a:srgbClr val="660066"/>
                </a:solidFill>
                <a:latin typeface="Arial Narrow"/>
              </a:rPr>
              <a:t>0</a:t>
            </a:r>
            <a:r>
              <a:rPr b="1" i="1" lang="zh-CN" sz="2400" spc="-1" strike="noStrike" baseline="-25000">
                <a:solidFill>
                  <a:srgbClr val="660066"/>
                </a:solidFill>
                <a:latin typeface="Arial Narrow"/>
              </a:rPr>
              <a:t>f</a:t>
            </a:r>
            <a:r>
              <a:rPr b="1" lang="zh-CN" sz="2400" spc="-1" strike="noStrike">
                <a:solidFill>
                  <a:srgbClr val="0000ff"/>
                </a:solidFill>
                <a:latin typeface="Arial Narrow"/>
              </a:rPr>
              <a:t>  was polarized before the hadroniz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9D5-7E48-4882-9FCF-F76AE25FDBA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724280" y="3200400"/>
            <a:ext cx="403884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3200400"/>
            <a:ext cx="373392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" y="914400"/>
            <a:ext cx="8305920" cy="198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4"/>
          <a:srcRect l="5451" t="31684" r="0" b="0"/>
          <a:stretch/>
        </p:blipFill>
        <p:spPr>
          <a:xfrm>
            <a:off x="5181480" y="1325520"/>
            <a:ext cx="3505320" cy="16462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3400" y="228240"/>
            <a:ext cx="75484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Spin transfer can be studied in following reactions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4480" indent="0">
              <a:lnSpc>
                <a:spcPct val="120000"/>
              </a:lnSpc>
              <a:buNone/>
              <a:tabLst>
                <a:tab algn="l" pos="0"/>
                <a:tab algn="l" pos="15238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nnihi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1371600"/>
            <a:ext cx="365760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E.g., at the Z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po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&lt;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 Narrow"/>
              </a:rPr>
              <a:t>(q)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&gt;=-0.94 for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=s,d,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&lt;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 Narrow"/>
              </a:rPr>
              <a:t>(q)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&gt;=-0.67 for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=u,c.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181480" y="1600200"/>
                <a:ext cx="319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5181480" y="2286000"/>
                <a:ext cx="371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095880" y="2209680"/>
                <a:ext cx="4572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6781680" y="1600200"/>
                <a:ext cx="338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6781680" y="2438280"/>
                <a:ext cx="344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 rot="10800000">
            <a:off x="7421400" y="1447920"/>
            <a:ext cx="24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 Narrow"/>
              </a:rPr>
              <a:t>fra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5"/>
          <a:srcRect l="10630" t="12627" r="0" b="0"/>
          <a:stretch/>
        </p:blipFill>
        <p:spPr>
          <a:xfrm>
            <a:off x="457200" y="4038480"/>
            <a:ext cx="3124080" cy="2230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914400" y="5943600"/>
            <a:ext cx="3124080" cy="3988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rent fragmentat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286000" y="3733920"/>
                <a:ext cx="371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914400" y="3733920"/>
                <a:ext cx="371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762120" y="4567320"/>
                <a:ext cx="3715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6" name="" descr=""/>
          <p:cNvPicPr/>
          <p:nvPr/>
        </p:nvPicPr>
        <p:blipFill>
          <a:blip r:embed="rId6"/>
          <a:srcRect l="6814" t="9336" r="0" b="0"/>
          <a:stretch/>
        </p:blipFill>
        <p:spPr>
          <a:xfrm>
            <a:off x="4952880" y="3886200"/>
            <a:ext cx="3505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609480" y="3325680"/>
                <a:ext cx="2819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→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→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4952880" y="3352680"/>
                <a:ext cx="1768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→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218200" y="4530600"/>
                <a:ext cx="2966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189400" y="5257800"/>
                <a:ext cx="2970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971800" y="984240"/>
                <a:ext cx="32004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*/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082-6B50-458A-A3A1-F87ACE8D80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5562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lculation method of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0000cc"/>
                </a:solidFill>
                <a:latin typeface="Arial Narrow"/>
              </a:rPr>
              <a:t>P</a:t>
            </a:r>
            <a:r>
              <a:rPr b="1" i="1" lang="en-US" sz="2800" spc="-1" strike="noStrike" baseline="-25000">
                <a:solidFill>
                  <a:srgbClr val="0000cc"/>
                </a:solidFill>
                <a:latin typeface="Arial Narrow"/>
              </a:rPr>
              <a:t>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</a:t>
            </a:r>
            <a:r>
              <a:rPr b="1" i="1" lang="en-US" sz="2800" spc="-1" strike="noStrike">
                <a:solidFill>
                  <a:srgbClr val="0000cc"/>
                </a:solidFill>
                <a:latin typeface="Arial Narrow"/>
              </a:rPr>
              <a:t>q</a:t>
            </a:r>
            <a:r>
              <a:rPr b="1" i="1" lang="en-US" sz="2800" spc="-1" strike="noStrike" baseline="30000">
                <a:solidFill>
                  <a:srgbClr val="0000cc"/>
                </a:solidFill>
                <a:latin typeface="Arial Narrow"/>
              </a:rPr>
              <a:t>0</a:t>
            </a:r>
            <a:r>
              <a:rPr b="1" i="1" lang="en-US" sz="2800" spc="-1" strike="noStrike" baseline="-25000">
                <a:solidFill>
                  <a:srgbClr val="0000cc"/>
                </a:solidFill>
                <a:latin typeface="Arial Narrow"/>
              </a:rPr>
              <a:t>f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H+X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 algn="just">
              <a:lnSpc>
                <a:spcPct val="110000"/>
              </a:lnSpc>
              <a:buNone/>
              <a:tabLst>
                <a:tab algn="l" pos="0"/>
                <a:tab algn="l" pos="15238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We divide the produced </a:t>
            </a:r>
            <a:r>
              <a:rPr b="1" i="1" lang="en-US" sz="2200" spc="-1" strike="noStrike">
                <a:solidFill>
                  <a:srgbClr val="0000cc"/>
                </a:solidFill>
                <a:latin typeface="Arial Narrow"/>
              </a:rPr>
              <a:t>H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nto the following 4 grou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3060720"/>
            <a:ext cx="7315200" cy="4942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1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1" i="1" lang="zh-CN" sz="21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i="1" lang="zh-CN" sz="2100" spc="-1" strike="noStrike" baseline="30000">
                <a:solidFill>
                  <a:srgbClr val="000000"/>
                </a:solidFill>
                <a:latin typeface="Arial Narrow"/>
              </a:rPr>
              <a:t>(q)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: polarization of</a:t>
            </a:r>
            <a:r>
              <a:rPr b="1" lang="zh-CN" sz="2100" spc="-1" strike="noStrike">
                <a:solidFill>
                  <a:srgbClr val="660066"/>
                </a:solidFill>
                <a:latin typeface="Arial Narrow"/>
              </a:rPr>
              <a:t> </a:t>
            </a:r>
            <a:r>
              <a:rPr b="1" i="1" lang="zh-CN" sz="2100" spc="-1" strike="noStrike">
                <a:solidFill>
                  <a:srgbClr val="0000cc"/>
                </a:solidFill>
                <a:latin typeface="Arial Narrow"/>
              </a:rPr>
              <a:t>q</a:t>
            </a:r>
            <a:r>
              <a:rPr b="1" i="1" lang="zh-CN" sz="2100" spc="-1" strike="noStrike" baseline="30000">
                <a:solidFill>
                  <a:srgbClr val="0000cc"/>
                </a:solidFill>
                <a:latin typeface="Arial Narrow"/>
              </a:rPr>
              <a:t>0</a:t>
            </a:r>
            <a:r>
              <a:rPr b="1" i="1" lang="zh-CN" sz="2100" spc="-1" strike="noStrike" baseline="-25000">
                <a:solidFill>
                  <a:srgbClr val="0000cc"/>
                </a:solidFill>
                <a:latin typeface="Arial Narrow"/>
              </a:rPr>
              <a:t>f</a:t>
            </a:r>
            <a:r>
              <a:rPr b="1" lang="zh-CN" sz="21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, calculable (electro-weak interaction; pQCD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1406520"/>
            <a:ext cx="8153640" cy="250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(a) Directly produced and contain </a:t>
            </a:r>
            <a:r>
              <a:rPr b="1" i="1" lang="zh-CN" sz="22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i="1" lang="zh-CN" sz="22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i="1" lang="zh-CN" sz="22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 .                                      </a:t>
            </a:r>
            <a:r>
              <a:rPr b="1" lang="zh-CN" sz="2200" spc="-1" strike="noStrike">
                <a:solidFill>
                  <a:srgbClr val="660066"/>
                </a:solidFill>
                <a:latin typeface="Arial Narrow"/>
              </a:rPr>
              <a:t>(polariz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(b) Decay products of heavier </a:t>
            </a:r>
            <a:r>
              <a:rPr b="1" i="1" lang="zh-CN" sz="22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i="1" lang="zh-CN" sz="2200" spc="-1" strike="noStrike" baseline="-25000">
                <a:solidFill>
                  <a:srgbClr val="000000"/>
                </a:solidFill>
                <a:latin typeface="Arial Narrow"/>
              </a:rPr>
              <a:t>j</a:t>
            </a: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 which were polarized.          </a:t>
            </a:r>
            <a:r>
              <a:rPr b="1" lang="zh-CN" sz="2200" spc="-1" strike="noStrike">
                <a:solidFill>
                  <a:srgbClr val="660066"/>
                </a:solidFill>
                <a:latin typeface="Arial Narrow"/>
              </a:rPr>
              <a:t>(polariz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(c) Decay products of heavier </a:t>
            </a:r>
            <a:r>
              <a:rPr b="1" i="1" lang="zh-CN" sz="22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i="1" lang="zh-CN" sz="2200" spc="-1" strike="noStrike" baseline="-25000">
                <a:solidFill>
                  <a:srgbClr val="000000"/>
                </a:solidFill>
                <a:latin typeface="Arial Narrow"/>
              </a:rPr>
              <a:t>j</a:t>
            </a:r>
            <a:r>
              <a:rPr b="1" lang="zh-CN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which were not polarized.    </a:t>
            </a:r>
            <a:r>
              <a:rPr b="1" lang="zh-CN" sz="2200" spc="-1" strike="noStrike">
                <a:solidFill>
                  <a:srgbClr val="660066"/>
                </a:solidFill>
                <a:latin typeface="Arial Narrow"/>
              </a:rPr>
              <a:t>(unpolariz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(d) Directly produced but do not contain </a:t>
            </a:r>
            <a:r>
              <a:rPr b="1" i="1" lang="zh-CN" sz="22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i="1" lang="zh-CN" sz="22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i="1" lang="zh-CN" sz="22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lang="zh-CN" sz="2200" spc="-1" strike="noStrike">
                <a:solidFill>
                  <a:srgbClr val="0000cc"/>
                </a:solidFill>
                <a:latin typeface="Arial Narrow"/>
              </a:rPr>
              <a:t> .                            </a:t>
            </a:r>
            <a:r>
              <a:rPr b="1" lang="zh-CN" sz="2200" spc="-1" strike="noStrike">
                <a:solidFill>
                  <a:srgbClr val="660066"/>
                </a:solidFill>
                <a:latin typeface="Arial Narrow"/>
              </a:rPr>
              <a:t>(unpolariz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280" y="5299200"/>
            <a:ext cx="5257800" cy="846000"/>
          </a:xfrm>
          <a:prstGeom prst="rect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 Narrow"/>
              </a:rPr>
              <a:t>t </a:t>
            </a:r>
            <a:r>
              <a:rPr b="1" i="1" lang="en-US" sz="2100" spc="-1" strike="noStrike" baseline="30000">
                <a:solidFill>
                  <a:srgbClr val="000000"/>
                </a:solidFill>
                <a:latin typeface="Arial Narrow"/>
              </a:rPr>
              <a:t>F</a:t>
            </a:r>
            <a:r>
              <a:rPr b="1" i="1" lang="en-US" sz="2100" spc="-1" strike="noStrike" baseline="-25000">
                <a:solidFill>
                  <a:srgbClr val="000000"/>
                </a:solidFill>
                <a:latin typeface="Arial Narrow"/>
              </a:rPr>
              <a:t>H,f   </a:t>
            </a: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: fragmentation polarization</a:t>
            </a:r>
            <a:r>
              <a:rPr b="1" i="1" lang="en-US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transfer factor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different in SU(6) or DI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3429000"/>
            <a:ext cx="1371600" cy="12193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19720" y="5743440"/>
            <a:ext cx="4572000" cy="7779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100" spc="-1" strike="noStrike">
                <a:solidFill>
                  <a:srgbClr val="000000"/>
                </a:solidFill>
                <a:latin typeface="Arial Narrow"/>
              </a:rPr>
              <a:t>t </a:t>
            </a:r>
            <a:r>
              <a:rPr b="1" i="1" lang="zh-CN" sz="2100" spc="-1" strike="noStrike" baseline="30000">
                <a:solidFill>
                  <a:srgbClr val="000000"/>
                </a:solidFill>
                <a:latin typeface="Arial Narrow"/>
              </a:rPr>
              <a:t>D</a:t>
            </a:r>
            <a:r>
              <a:rPr b="1" i="1" lang="zh-CN" sz="2100" spc="-1" strike="noStrike" baseline="-25000">
                <a:solidFill>
                  <a:srgbClr val="000000"/>
                </a:solidFill>
                <a:latin typeface="Arial Narrow"/>
              </a:rPr>
              <a:t>H,Hj 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: decay polarization transfer facto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(Data and/or simple model estimations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546360"/>
            <a:ext cx="5943600" cy="7974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average numbers of </a:t>
            </a:r>
            <a:r>
              <a:rPr b="1" i="1" lang="en-US" sz="21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of different origins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calculable using fragmentation models (e.g. JETSET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581280" y="4267080"/>
            <a:ext cx="533520" cy="2286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29200" y="4267080"/>
            <a:ext cx="914400" cy="3049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36840" y="4483080"/>
                <a:ext cx="5767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den>
                    </m:f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j</m:t>
                            </m:r>
                          </m:sub>
                        </m:sSub>
                      </m:e>
                    </m:nary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den>
                    </m:f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Hj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 flipH="1">
            <a:off x="3809520" y="4267080"/>
            <a:ext cx="685800" cy="762120"/>
          </a:xfrm>
          <a:prstGeom prst="line">
            <a:avLst/>
          </a:prstGeom>
          <a:ln w="9360">
            <a:solidFill>
              <a:srgbClr val="12d21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76920" y="4267080"/>
            <a:ext cx="990360" cy="685800"/>
          </a:xfrm>
          <a:prstGeom prst="line">
            <a:avLst/>
          </a:prstGeom>
          <a:ln w="9360">
            <a:solidFill>
              <a:srgbClr val="12d21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886200" y="4876560"/>
            <a:ext cx="457200" cy="53316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7086600" y="5028840"/>
            <a:ext cx="838080" cy="7621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53080" y="152280"/>
            <a:ext cx="2286000" cy="58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ndard”, according to some of our refe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1680" y="762120"/>
            <a:ext cx="2210040" cy="58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Boros, Liang, PRD(98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Liu, Liang, PRD(200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524-AC70-4C70-80D3-E446C6B29F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676520"/>
            <a:ext cx="8229600" cy="426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pin Structure of Hadr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Proton’s Spin Sum Ru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876920" y="762120"/>
                <a:ext cx="3962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G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2120" y="1752480"/>
                <a:ext cx="3008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ΔU</m:t>
                    </m:r>
                    <m:r>
                      <m:t xml:space="preserve">+</m:t>
                    </m:r>
                    <m:r>
                      <m:t xml:space="preserve">ΔD</m:t>
                    </m:r>
                    <m:r>
                      <m:t xml:space="preserve">+</m:t>
                    </m:r>
                    <m:r>
                      <m:t xml:space="preserve">ΔS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3886200" y="1752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uark spin con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62120" y="2895480"/>
                <a:ext cx="8586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600200" y="2895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uark orbital angular momentum con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79400" y="4397400"/>
                <a:ext cx="744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600200" y="4267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luon spin con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85800" y="5257800"/>
                <a:ext cx="8906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676520" y="5257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luon orbital angular momentum con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362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How large is </a:t>
            </a:r>
            <a:r>
              <a:rPr b="1" i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?   Flavor separation?  x-depend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50532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How does it manifest itself in high energy rea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How large is </a:t>
            </a:r>
            <a:r>
              <a:rPr b="1" i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</a:t>
            </a:r>
            <a:r>
              <a:rPr b="1" i="1" lang="zh-CN" sz="2400" spc="-1" strike="noStrike">
                <a:solidFill>
                  <a:srgbClr val="0000cc"/>
                </a:solidFill>
                <a:latin typeface="Arial Narrow"/>
              </a:rPr>
              <a:t>L</a:t>
            </a:r>
            <a:r>
              <a:rPr b="1" i="1" lang="zh-CN" sz="2400" spc="-1" strike="noStrike" baseline="-25000">
                <a:solidFill>
                  <a:srgbClr val="0000cc"/>
                </a:solidFill>
                <a:latin typeface="Arial Narrow"/>
              </a:rPr>
              <a:t>q</a:t>
            </a: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?  How to measure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7401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How large is </a:t>
            </a:r>
            <a:r>
              <a:rPr b="1" i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cc"/>
                </a:solidFill>
                <a:latin typeface="Arial Narrow"/>
              </a:rPr>
              <a:t>G</a:t>
            </a: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?  x-dependence? How to measure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365-50AA-47A7-B345-C4688F7262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rcRect l="0" t="2537" r="6283" b="1903"/>
          <a:stretch/>
        </p:blipFill>
        <p:spPr>
          <a:xfrm>
            <a:off x="838080" y="838080"/>
            <a:ext cx="5639040" cy="50371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65280" y="380520"/>
            <a:ext cx="6649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                                                      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1600200" y="225360"/>
            <a:ext cx="4191120" cy="53676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5943600"/>
            <a:ext cx="678204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(6) agrees with the data not worse than DI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1752480"/>
            <a:ext cx="1295640" cy="44064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x of |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2362320"/>
            <a:ext cx="685800" cy="7038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3048120"/>
            <a:ext cx="533160" cy="3988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705720" y="3049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Boros,Liang, PRD(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FA5-3487-409E-AF38-706983BC55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Spin Tranfer v.s. Hyperon Polarization in D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047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609480" y="1676520"/>
            <a:ext cx="8229600" cy="2671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cay contribution to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s high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ungsuhChe"/>
                <a:ea typeface="GungsuhChe"/>
              </a:rPr>
              <a:t>+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s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ergies of the experiments such as NOMAD, HERMES are too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tistics is not high enough to distinguish between SU(6) or D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50292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Liu, Xu &amp; Liang, PRD64, 073004 (200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Liang &amp; Liu, PRD66, 075302 (200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9EB-B9F1-4BF3-8EF6-381BA495FB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Hyperon polarization in high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jets in polarized pp collision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49920" indent="0" algn="just">
              <a:lnSpc>
                <a:spcPct val="110000"/>
              </a:lnSpc>
              <a:buNone/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Longitudinal polarization of hyperon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rcRect l="20007" t="7732" r="20007" b="53694"/>
          <a:stretch/>
        </p:blipFill>
        <p:spPr>
          <a:xfrm>
            <a:off x="838080" y="1344600"/>
            <a:ext cx="6172200" cy="513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486400" y="838080"/>
                <a:ext cx="19512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3505320" y="20574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526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2900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2666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391520" y="53341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Xu,Liu,Liang, PRD(20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C31-7715-45A4-B48C-008BEA5211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Spin Transfer in High Energy Fragmen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What do we expect, SU(6) or D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1447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QC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3429000"/>
            <a:ext cx="20574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1) Bare qu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3429000"/>
            <a:ext cx="243828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ituent qu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15200" y="3429000"/>
            <a:ext cx="11430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d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71800" y="3581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3581280"/>
            <a:ext cx="990720" cy="152640"/>
          </a:xfrm>
          <a:prstGeom prst="rightArrow">
            <a:avLst>
              <a:gd name="adj1" fmla="val 50000"/>
              <a:gd name="adj2" fmla="val 162264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10080" y="3962520"/>
            <a:ext cx="243864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k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38080" y="4667400"/>
            <a:ext cx="213372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2) Bare qu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971800" y="4799880"/>
            <a:ext cx="4267080" cy="228600"/>
          </a:xfrm>
          <a:prstGeom prst="rightArrow">
            <a:avLst>
              <a:gd name="adj1" fmla="val 50000"/>
              <a:gd name="adj2" fmla="val 466654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8880" y="4743360"/>
            <a:ext cx="11430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d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029200" y="4419720"/>
            <a:ext cx="1447920" cy="45720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76920" y="57913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y are of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5400000">
            <a:off x="3219480" y="3409920"/>
            <a:ext cx="419040" cy="1067040"/>
          </a:xfrm>
          <a:custGeom>
            <a:avLst/>
            <a:gdLst>
              <a:gd name="textAreaLeft" fmla="*/ 0 w 419040"/>
              <a:gd name="textAreaRight" fmla="*/ 151200 w 4190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71800" y="4038480"/>
            <a:ext cx="1143000" cy="416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re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5142960" y="3009960"/>
            <a:ext cx="304920" cy="4343400"/>
          </a:xfrm>
          <a:custGeom>
            <a:avLst/>
            <a:gdLst>
              <a:gd name="textAreaLeft" fmla="*/ 0 w 304920"/>
              <a:gd name="textAreaRight" fmla="*/ 110160 w 3049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5257800"/>
            <a:ext cx="1143000" cy="416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 Narrow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2371680"/>
            <a:ext cx="7848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high energy reactions, first produce current or bare quarks, then: two possib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81080" y="1467000"/>
            <a:ext cx="64008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constituent quark = A bare quar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“private fiel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1924200"/>
            <a:ext cx="64008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physical baryon = Three constituent qua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609480" y="5823000"/>
                <a:ext cx="1981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generatio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/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644920" y="5861160"/>
                <a:ext cx="2232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mbinatio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609480" y="4038480"/>
            <a:ext cx="205740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k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362320" y="3733920"/>
            <a:ext cx="990360" cy="30456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553080" y="3657240"/>
            <a:ext cx="304920" cy="30492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0DF-0F71-457A-AFAD-8D2DA7BFA3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3520" y="3733920"/>
            <a:ext cx="8458200" cy="259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Spin Transfer in High Energy Fragmen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We no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2590920" y="914400"/>
                <a:ext cx="3809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685800" y="1467000"/>
                <a:ext cx="3581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q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4267080" y="1447920"/>
            <a:ext cx="4724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representing the different Fock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280" y="1981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 estima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2280" y="3276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s impl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38080" y="4514760"/>
            <a:ext cx="167652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re qu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962520" y="4514760"/>
            <a:ext cx="16002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Bare ha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14760"/>
            <a:ext cx="2057400" cy="438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Physical ha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64832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62720" y="464832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3809880"/>
            <a:ext cx="243828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k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95480" y="4191120"/>
            <a:ext cx="914400" cy="53316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5880" y="3809880"/>
            <a:ext cx="205740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k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172200" y="4267080"/>
            <a:ext cx="838080" cy="38124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43000" y="5276880"/>
            <a:ext cx="464832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Consisting of the first Fock Stat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505320" y="4952520"/>
            <a:ext cx="990360" cy="38124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5810400"/>
            <a:ext cx="472464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Consisting of the different Fock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705720" y="4952520"/>
            <a:ext cx="914400" cy="83844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3520" y="2444760"/>
            <a:ext cx="84582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The probability for three quarks to combine together to form the firs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Fock state of a baryon is much larger than that for higher Fock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A33-8280-439E-BCAC-DAF93F5017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257800" cy="533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 Narrow"/>
              </a:rPr>
              <a:t>Pictorial Repres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tic 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65760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Part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1004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Partons With Sp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510552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3809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high energy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791320" y="5029200"/>
                <a:ext cx="755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6" name="" descr=""/>
          <p:cNvPicPr/>
          <p:nvPr/>
        </p:nvPicPr>
        <p:blipFill>
          <a:blip r:embed="rId1"/>
          <a:srcRect l="2285" t="2656" r="51786" b="0"/>
          <a:stretch/>
        </p:blipFill>
        <p:spPr>
          <a:xfrm>
            <a:off x="6324480" y="1600200"/>
            <a:ext cx="2057400" cy="20937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rcRect l="2285" t="2656" r="51786" b="0"/>
          <a:stretch/>
        </p:blipFill>
        <p:spPr>
          <a:xfrm>
            <a:off x="6553080" y="4267080"/>
            <a:ext cx="2133720" cy="20941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rcRect l="2285" t="2533" r="50263" b="0"/>
          <a:stretch/>
        </p:blipFill>
        <p:spPr>
          <a:xfrm>
            <a:off x="685800" y="1600200"/>
            <a:ext cx="2133720" cy="21286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4"/>
          <a:srcRect l="2285" t="2656" r="50263" b="0"/>
          <a:stretch/>
        </p:blipFill>
        <p:spPr>
          <a:xfrm>
            <a:off x="3505320" y="1600200"/>
            <a:ext cx="2222280" cy="20955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rcRect l="2285" t="2656" r="50263" b="0"/>
          <a:stretch/>
        </p:blipFill>
        <p:spPr>
          <a:xfrm>
            <a:off x="3657600" y="4267080"/>
            <a:ext cx="2222640" cy="20955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286000" y="5943600"/>
            <a:ext cx="2057400" cy="4381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k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124080" y="5257440"/>
            <a:ext cx="763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38680" y="2362320"/>
                <a:ext cx="7556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819520" y="2286000"/>
                <a:ext cx="755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5" name="" descr=""/>
          <p:cNvPicPr/>
          <p:nvPr/>
        </p:nvPicPr>
        <p:blipFill>
          <a:blip r:embed="rId6"/>
          <a:srcRect l="2285" t="0" r="50263" b="0"/>
          <a:stretch/>
        </p:blipFill>
        <p:spPr>
          <a:xfrm>
            <a:off x="762120" y="4267080"/>
            <a:ext cx="182880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88F-CB03-47FE-84FA-F3E6054231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257800" cy="533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 Narrow"/>
              </a:rPr>
              <a:t>Summar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Spin is a powerful tool to study the structure of hadron and the properties of strong interaction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908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Striking spin effects have been observed in last years, new exciting results are comi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4114800"/>
            <a:ext cx="8458200" cy="159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Bermuda Solid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Bermuda Solid"/>
              </a:rPr>
              <a:t>for your attention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2C0-422F-449E-B1B8-5D3775F00D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4800600"/>
            <a:ext cx="662940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1371600"/>
            <a:ext cx="6400800" cy="99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 Narrow"/>
              </a:rPr>
              <a:t>Quark spin contribution </a:t>
            </a:r>
            <a:r>
              <a:rPr b="1" i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clusive DIS data + … 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155 NLO F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91120" y="1420920"/>
                <a:ext cx="32763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2193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1989: EMC+E130+E8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1828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ton’s spin cris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505320" y="5021280"/>
                <a:ext cx="4267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rPr>
                        <m:lit/>
                        <m:nor/>
                      </m:rPr>
                      <m:t xml:space="preserve">   at   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e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1523880" y="1981080"/>
            <a:ext cx="1752840" cy="228600"/>
          </a:xfrm>
          <a:prstGeom prst="rightArrow">
            <a:avLst>
              <a:gd name="adj1" fmla="val 50000"/>
              <a:gd name="adj2" fmla="val 19169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666880"/>
            <a:ext cx="6476760" cy="609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Spin 1996 (Mallo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46680" y="2819520"/>
                <a:ext cx="19969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09480" y="4281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C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3505320"/>
            <a:ext cx="647676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orld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038480" y="3603600"/>
                <a:ext cx="202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09480" y="5867280"/>
            <a:ext cx="769644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But, not only this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BC3-58E6-4399-92AE-257AB2524B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276720"/>
            <a:ext cx="8534520" cy="259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914400"/>
            <a:ext cx="853452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ntigoniBd"/>
              </a:rPr>
              <a:t>Extracting </a:t>
            </a:r>
            <a:r>
              <a:rPr b="1" i="1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333399"/>
                </a:solidFill>
                <a:latin typeface="AntigoniBd"/>
              </a:rPr>
              <a:t>  from Inclusive DIS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2743200" cy="6858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Parton Mod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82840" y="1539720"/>
                <a:ext cx="41086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ΔQ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Q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8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419720" y="2104920"/>
                <a:ext cx="1523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ΔU</m:t>
                    </m:r>
                    <m:r>
                      <m:t xml:space="preserve">−</m:t>
                    </m:r>
                    <m:r>
                      <m:t xml:space="preserve">ΔD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324480" y="2052720"/>
                <a:ext cx="2210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ΔU</m:t>
                    </m:r>
                    <m:r>
                      <m:t xml:space="preserve">+</m:t>
                    </m:r>
                    <m:r>
                      <m:t xml:space="preserve">ΔD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Δ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14400" y="2093760"/>
                <a:ext cx="3276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(</m:t>
                    </m:r>
                    <m:r>
                      <m:t xml:space="preserve">ΔU</m:t>
                    </m:r>
                    <m:r>
                      <m:t xml:space="preserve">+</m:t>
                    </m:r>
                    <m:r>
                      <m:t xml:space="preserve">ΔD</m:t>
                    </m:r>
                    <m:r>
                      <m:t xml:space="preserve">+</m:t>
                    </m:r>
                    <m:r>
                      <m:t xml:space="preserve">Δ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Σ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564000" y="2684520"/>
                <a:ext cx="2398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|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400800" y="2544840"/>
                <a:ext cx="14479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85800" y="2590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tor expre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200400"/>
            <a:ext cx="6629400" cy="718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SU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(3) Symmetry in Hyperon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824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Wigner-Eckart Theor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419720" y="3865680"/>
                <a:ext cx="3733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4427640"/>
                <a:ext cx="1893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743200" y="4373640"/>
            <a:ext cx="6019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</a:rPr>
              <a:t>The 8-dimensional representation of the SU</a:t>
            </a:r>
            <a:r>
              <a:rPr b="1" lang="zh-CN" sz="22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1" lang="zh-CN" sz="2200" spc="-1" strike="noStrike">
                <a:solidFill>
                  <a:srgbClr val="000000"/>
                </a:solidFill>
                <a:latin typeface="Arial Narrow"/>
              </a:rPr>
              <a:t>(3) group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676520" y="4876920"/>
                <a:ext cx="19047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ψ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838080" y="4952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09880" y="4765680"/>
                <a:ext cx="4114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|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824280" y="5343480"/>
                <a:ext cx="4481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</m:sSubSup>
                        <m:r>
                          <m:t xml:space="preserve">|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990720" y="6019920"/>
            <a:ext cx="1828800" cy="30456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048120" y="5867280"/>
                <a:ext cx="2361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200400" y="914400"/>
                <a:ext cx="3129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[</m:t>
                    </m:r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62120" y="1600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grated over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629400" y="1066680"/>
                <a:ext cx="2293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+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B1C-B31B-4D21-A22D-7BA5BDC8B7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762120"/>
            <a:ext cx="830592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Further Implic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(1) Flavor decomposition:</a:t>
            </a:r>
            <a:r>
              <a:rPr b="1" lang="en-US" sz="2800" spc="-1" strike="noStrike">
                <a:solidFill>
                  <a:srgbClr val="6600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314360"/>
            <a:ext cx="830592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(2) Quark spin contribution for other baryons in the same </a:t>
            </a:r>
            <a:r>
              <a:rPr b="1" i="1" lang="en-US" sz="26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i="1" lang="en-US" sz="2600" spc="-1" strike="noStrike">
                <a:solidFill>
                  <a:srgbClr val="000000"/>
                </a:solidFill>
                <a:latin typeface="Arial Narrow"/>
              </a:rPr>
              <a:t>(1/2)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octet and the corresponding flavor decomposi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5943600"/>
            <a:ext cx="8305560" cy="106884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ll these results are as reliable as those for prot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114800" y="839880"/>
                <a:ext cx="47242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U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ΔD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p>
                      <m:e>
                        <m:r>
                          <m:t xml:space="preserve">ΔS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3" name="" descr=""/>
          <p:cNvPicPr/>
          <p:nvPr/>
        </p:nvPicPr>
        <p:blipFill>
          <a:blip r:embed="rId3"/>
          <a:srcRect l="1081" t="34313" r="12615" b="0"/>
          <a:stretch/>
        </p:blipFill>
        <p:spPr>
          <a:xfrm>
            <a:off x="838080" y="2057400"/>
            <a:ext cx="7925040" cy="3801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14400" y="25909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40384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44197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2096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096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22096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84A-0DC9-49F4-BF83-6B74344646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1371600"/>
            <a:ext cx="1905120" cy="4038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1295280"/>
            <a:ext cx="8001000" cy="205740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Rounded MT Bold"/>
              </a:rPr>
              <a:t>x-Dependence: The “QCD Analysis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800600" cy="5335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QCD improved Parton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47920" y="1644480"/>
                <a:ext cx="75438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ΔΣ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bSup>
                      <m:e>
                        <m:r>
                          <m:t xml:space="preserve">ΔC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p>
                    </m:sSubSup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bSup>
                      <m:e>
                        <m:r>
                          <m:t xml:space="preserve">ΔC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p>
                      <m:e>
                        <m:r>
                          <m:t xml:space="preserve">ΔC</m:t>
                        </m:r>
                      </m:e>
                      <m:sup>
                        <m:r>
                          <m:t xml:space="preserve">G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523880" y="2160720"/>
                <a:ext cx="2819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Σ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p>
                      <m:e>
                        <m:r>
                          <m:t xml:space="preserve">[</m:t>
                        </m:r>
                      </m:e>
                    </m:nary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95680" y="2209680"/>
                <a:ext cx="39625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ΔΣ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00200" y="2724120"/>
                <a:ext cx="2819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C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t xml:space="preserve">ΔC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ΔC</m:t>
                        </m:r>
                      </m:e>
                      <m:sup>
                        <m:r>
                          <m:t xml:space="preserve">G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572000" y="27432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polarized Wilson coefficie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calculable in pQ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3429000"/>
            <a:ext cx="4800600" cy="62712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clusive DIS data on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r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4114800"/>
            <a:ext cx="4876920" cy="559800"/>
          </a:xfrm>
          <a:prstGeom prst="rect">
            <a:avLst/>
          </a:prstGeom>
          <a:solidFill>
            <a:srgbClr val="12d21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pirical forms of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5334120"/>
            <a:ext cx="7848720" cy="1169640"/>
          </a:xfrm>
          <a:prstGeom prst="rect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ntigoni"/>
              </a:rPr>
              <a:t>Spin-dependent parton distrib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5120" y="5943600"/>
                <a:ext cx="6110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Δ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Δ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Δ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Δ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048120" y="396252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48120" y="4648320"/>
            <a:ext cx="30477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1295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Next to the leading order in pQCD (N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0A1-A714-4243-AF15-F37A2FC1D7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x-Dependence: The “QCD Analysis”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orl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9907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Bl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ümlein &amp; Böttcher, NPB636(02)22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16684" t="16826" r="23358" b="37690"/>
          <a:stretch/>
        </p:blipFill>
        <p:spPr>
          <a:xfrm>
            <a:off x="762120" y="1425600"/>
            <a:ext cx="7559640" cy="495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736-F49F-4896-A677-DC7ED1ADFE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x-Dependence: The “QCD Analysis”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LO Resul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t Q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=4GeV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5257800" y="8380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Bl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ümlein &amp; Böttcher, NPB636(02)225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>
            <a:alphaModFix amt="50000"/>
          </a:blip>
          <a:srcRect l="12394" t="12115" r="61016" b="70332"/>
          <a:stretch/>
        </p:blipFill>
        <p:spPr>
          <a:xfrm>
            <a:off x="152280" y="2222640"/>
            <a:ext cx="3733920" cy="3492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rcRect l="16684" t="19518" r="15254" b="33315"/>
          <a:stretch/>
        </p:blipFill>
        <p:spPr>
          <a:xfrm>
            <a:off x="4075200" y="1371600"/>
            <a:ext cx="506880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梁作堂(Liang Zuo-tang)，山东大学(Shandong University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FD0-8F0C-4F00-A608-D6F7395BBE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年10月，新乡，全国高能物理大会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ang Zuo-tang</cp:lastModifiedBy>
  <dcterms:modified xsi:type="dcterms:W3CDTF">2002-11-01T04:08:45Z</dcterms:modified>
  <cp:revision>310</cp:revision>
  <dc:subject/>
  <dc:title>PowerPoint 演示文稿</dc:title>
</cp:coreProperties>
</file>