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8C9-ADB2-410B-8BA5-FD601A44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5AC-CA00-47FC-9750-8BAC61E7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9EF-52A3-4D5F-ADFF-5825F33A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BD4-8206-4E95-805B-E279CBC9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6433-30ED-4C2B-9F3D-99D5EE6D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6927-D9B1-4885-9785-79AB8F32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6A98-EDB8-4428-9650-F43C3224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2D58-6BBC-4A21-B653-8E7B1764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DD9D-53A6-4607-9DA4-C0189988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782F-5C3D-48C7-B237-908F4889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8256-3B84-476D-844A-7122D978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A9A-3F8B-4DDF-8457-9D83ED62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B821-4EA0-48E9-A850-51D43EFC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7D26-253E-40CA-8DED-F9288EB7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51A3-2DA4-4822-A4AA-E1651E6C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3A81-A1B2-4AE9-80F6-8A863718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2549-98D1-4DD6-A37B-DFF59F0A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D81-A940-4EF2-BC36-72400BF6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F9D-D2DE-43D3-B989-0583839A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FF0-65D5-4B93-93A7-20EBF209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904-7688-44A8-98EC-B5E3D65C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F4C-A0FD-48E0-A04C-0C5E4749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485-9223-4B21-A322-D4D007EB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74F-579F-43F4-873A-086CFA89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1AA6-FAE6-482D-908D-E8995B6DA449}" type="datetime">
              <a:rPr b="0" lang="zh-CN" sz="1400" spc="-1" strike="noStrike">
                <a:solidFill>
                  <a:srgbClr val="ffffcc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3586-5569-4C38-958E-B4A52A707480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8BB7-A8CA-4CCB-97C0-CB342161E38F}" type="datetime">
              <a:rPr b="0" lang="zh-CN" sz="1400" spc="-1" strike="noStrike">
                <a:solidFill>
                  <a:srgbClr val="ffffcc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63E4-3BEC-425B-B276-5D4B552448C2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物理的</a:t>
            </a:r>
            <a:r>
              <a:rPr b="0" lang="zh-CN" sz="4400" spc="-1" strike="noStrike">
                <a:solidFill>
                  <a:srgbClr val="ff2b2b"/>
                </a:solidFill>
                <a:latin typeface="Arial"/>
              </a:rPr>
              <a:t>一些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最新进展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吕才典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中科院高能物理所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的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辐射衰变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半轻子衰变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的非轻子衰变：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1.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因子化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2.  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微扰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物理中抽取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KM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幺正相角</a:t>
            </a:r>
            <a:r>
              <a:rPr b="1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、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γ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总结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185-8C90-4564-8890-21E620EFF59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03763-EE9A-4AC3-B49D-B43D993E41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例如：超对称粒子的贡献，不同于标准模型的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–A)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形式，因而，造成衰变宽度作为</a:t>
            </a:r>
            <a:r>
              <a:rPr b="0" lang="en-US" sz="3200" spc="-1" strike="noStrike">
                <a:solidFill>
                  <a:srgbClr val="ff2b2b"/>
                </a:solidFill>
                <a:latin typeface="Arial"/>
              </a:rPr>
              <a:t>φ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函数形式的不同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此方法能区分不同（手征）算符的贡献，即使在新物理对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衰变分支比的贡献恰好与标准模型没有差别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情况下，仍然可以通过衰变末态角分布的不同，区分出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新物理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标准模型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贡献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70E-A060-4678-9665-7B97FA2120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9FCCB-980A-40F8-8DDB-FABC70A2D4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 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介子的非轻子衰变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研究背景和动机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研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P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破坏 – 特别是直接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P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破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KM 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相角的直接测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检验标准模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新物理信号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—稀有衰变等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… 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2B1-2AA5-428F-BF07-55C624A275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890F9-DE5D-4A37-BFA2-556F1A2556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’  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ud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u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u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’    =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cd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c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 V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Arial"/>
              </a:rPr>
              <a:t>c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’  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td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t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t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b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幺正三角形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ud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ub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cd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cb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td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tb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三个角的测量主要由</a:t>
            </a: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非轻子衰变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来完成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例如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α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→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π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,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ρ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β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→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/ψK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Arial"/>
              </a:rPr>
              <a:t>ud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Arial"/>
              </a:rPr>
              <a:t>ub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α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Arial"/>
              </a:rPr>
              <a:t>td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Arial"/>
              </a:rPr>
              <a:t>tb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γ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→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Kπ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, 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→K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ρ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来测量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γ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Arial"/>
              </a:rPr>
              <a:t>cb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762120"/>
            <a:ext cx="533160" cy="1447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762120"/>
            <a:ext cx="2895480" cy="1447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762120"/>
            <a:ext cx="457200" cy="13716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790960" y="3809880"/>
            <a:ext cx="533160" cy="1447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809880"/>
            <a:ext cx="2133720" cy="1371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5257800"/>
            <a:ext cx="26668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056-BF1B-4656-AFF7-D38CDA142D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DC051-70A0-4245-B21B-2827A5691E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介子的非轻子 衰变的计算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弱电相互作用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夸克层次的弱电衰变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微扰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辐射修正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强子化过程的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非微扰计算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最困难的部分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因子化定理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假设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证明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与具体的过程有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FA2-B8FA-4CBD-97AE-161AFEE8DE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D7038-507A-4F80-A5DA-B078E70040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B→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ππ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πρ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πω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衰变由两类夸克图贡献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               u           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树图 ∝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Arial"/>
              </a:rPr>
              <a:t>ub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Arial"/>
              </a:rPr>
              <a:t>ud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π               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ρ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                    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企鹅图∝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Arial"/>
              </a:rPr>
              <a:t>tb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Arial"/>
              </a:rPr>
              <a:t>td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π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895480"/>
            <a:ext cx="2895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3581280"/>
            <a:ext cx="2895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14600" y="1676520"/>
            <a:ext cx="762120" cy="761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14600" y="2133720"/>
            <a:ext cx="106668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17600" y="2430360"/>
            <a:ext cx="322560" cy="480960"/>
          </a:xfrm>
          <a:custGeom>
            <a:avLst/>
            <a:gdLst/>
            <a:ahLst/>
            <a:rect l="l" t="t" r="r" b="b"/>
            <a:pathLst>
              <a:path w="203" h="303">
                <a:moveTo>
                  <a:pt x="203" y="5"/>
                </a:moveTo>
                <a:cubicBezTo>
                  <a:pt x="178" y="9"/>
                  <a:pt x="148" y="0"/>
                  <a:pt x="128" y="16"/>
                </a:cubicBezTo>
                <a:cubicBezTo>
                  <a:pt x="110" y="30"/>
                  <a:pt x="107" y="80"/>
                  <a:pt x="107" y="80"/>
                </a:cubicBezTo>
                <a:cubicBezTo>
                  <a:pt x="119" y="125"/>
                  <a:pt x="135" y="138"/>
                  <a:pt x="160" y="176"/>
                </a:cubicBezTo>
                <a:cubicBezTo>
                  <a:pt x="153" y="187"/>
                  <a:pt x="151" y="204"/>
                  <a:pt x="139" y="208"/>
                </a:cubicBezTo>
                <a:cubicBezTo>
                  <a:pt x="0" y="250"/>
                  <a:pt x="38" y="172"/>
                  <a:pt x="11" y="250"/>
                </a:cubicBezTo>
                <a:cubicBezTo>
                  <a:pt x="25" y="303"/>
                  <a:pt x="7" y="293"/>
                  <a:pt x="54" y="293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5791320"/>
            <a:ext cx="2971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105520"/>
            <a:ext cx="12193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14600" y="4114800"/>
            <a:ext cx="990720" cy="9907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352680" y="4571640"/>
            <a:ext cx="60984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518148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46440" y="4554360"/>
            <a:ext cx="1252440" cy="559080"/>
          </a:xfrm>
          <a:custGeom>
            <a:avLst/>
            <a:gdLst/>
            <a:ahLst/>
            <a:rect l="l" t="t" r="r" b="b"/>
            <a:pathLst>
              <a:path w="789" h="352">
                <a:moveTo>
                  <a:pt x="0" y="352"/>
                </a:moveTo>
                <a:cubicBezTo>
                  <a:pt x="3" y="327"/>
                  <a:pt x="6" y="302"/>
                  <a:pt x="10" y="278"/>
                </a:cubicBezTo>
                <a:cubicBezTo>
                  <a:pt x="13" y="263"/>
                  <a:pt x="7" y="240"/>
                  <a:pt x="21" y="235"/>
                </a:cubicBezTo>
                <a:cubicBezTo>
                  <a:pt x="48" y="226"/>
                  <a:pt x="78" y="242"/>
                  <a:pt x="106" y="246"/>
                </a:cubicBezTo>
                <a:cubicBezTo>
                  <a:pt x="120" y="242"/>
                  <a:pt x="143" y="248"/>
                  <a:pt x="149" y="235"/>
                </a:cubicBezTo>
                <a:cubicBezTo>
                  <a:pt x="222" y="75"/>
                  <a:pt x="108" y="162"/>
                  <a:pt x="192" y="107"/>
                </a:cubicBezTo>
                <a:cubicBezTo>
                  <a:pt x="213" y="114"/>
                  <a:pt x="235" y="121"/>
                  <a:pt x="256" y="128"/>
                </a:cubicBezTo>
                <a:cubicBezTo>
                  <a:pt x="268" y="132"/>
                  <a:pt x="267" y="152"/>
                  <a:pt x="277" y="160"/>
                </a:cubicBezTo>
                <a:cubicBezTo>
                  <a:pt x="286" y="167"/>
                  <a:pt x="298" y="167"/>
                  <a:pt x="309" y="171"/>
                </a:cubicBezTo>
                <a:cubicBezTo>
                  <a:pt x="323" y="130"/>
                  <a:pt x="321" y="95"/>
                  <a:pt x="352" y="64"/>
                </a:cubicBezTo>
                <a:cubicBezTo>
                  <a:pt x="392" y="74"/>
                  <a:pt x="418" y="79"/>
                  <a:pt x="448" y="107"/>
                </a:cubicBezTo>
                <a:cubicBezTo>
                  <a:pt x="525" y="80"/>
                  <a:pt x="437" y="121"/>
                  <a:pt x="490" y="54"/>
                </a:cubicBezTo>
                <a:cubicBezTo>
                  <a:pt x="497" y="45"/>
                  <a:pt x="511" y="47"/>
                  <a:pt x="522" y="43"/>
                </a:cubicBezTo>
                <a:cubicBezTo>
                  <a:pt x="529" y="36"/>
                  <a:pt x="534" y="22"/>
                  <a:pt x="544" y="22"/>
                </a:cubicBezTo>
                <a:cubicBezTo>
                  <a:pt x="566" y="22"/>
                  <a:pt x="608" y="43"/>
                  <a:pt x="608" y="43"/>
                </a:cubicBezTo>
                <a:cubicBezTo>
                  <a:pt x="651" y="108"/>
                  <a:pt x="610" y="63"/>
                  <a:pt x="640" y="11"/>
                </a:cubicBezTo>
                <a:cubicBezTo>
                  <a:pt x="646" y="1"/>
                  <a:pt x="661" y="4"/>
                  <a:pt x="672" y="0"/>
                </a:cubicBezTo>
                <a:cubicBezTo>
                  <a:pt x="704" y="11"/>
                  <a:pt x="708" y="10"/>
                  <a:pt x="736" y="32"/>
                </a:cubicBezTo>
                <a:cubicBezTo>
                  <a:pt x="744" y="38"/>
                  <a:pt x="748" y="50"/>
                  <a:pt x="757" y="54"/>
                </a:cubicBezTo>
                <a:cubicBezTo>
                  <a:pt x="767" y="58"/>
                  <a:pt x="778" y="54"/>
                  <a:pt x="789" y="54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06680" y="5079960"/>
            <a:ext cx="195120" cy="152280"/>
          </a:xfrm>
          <a:custGeom>
            <a:avLst/>
            <a:gdLst/>
            <a:ahLst/>
            <a:rect l="l" t="t" r="r" b="b"/>
            <a:pathLst>
              <a:path w="123" h="96">
                <a:moveTo>
                  <a:pt x="0" y="0"/>
                </a:moveTo>
                <a:cubicBezTo>
                  <a:pt x="11" y="60"/>
                  <a:pt x="15" y="64"/>
                  <a:pt x="64" y="96"/>
                </a:cubicBezTo>
                <a:cubicBezTo>
                  <a:pt x="123" y="81"/>
                  <a:pt x="117" y="80"/>
                  <a:pt x="117" y="21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31960" y="5033880"/>
            <a:ext cx="495360" cy="217440"/>
          </a:xfrm>
          <a:custGeom>
            <a:avLst/>
            <a:gdLst/>
            <a:ahLst/>
            <a:rect l="l" t="t" r="r" b="b"/>
            <a:pathLst>
              <a:path w="312" h="137">
                <a:moveTo>
                  <a:pt x="49" y="61"/>
                </a:moveTo>
                <a:cubicBezTo>
                  <a:pt x="45" y="43"/>
                  <a:pt x="51" y="21"/>
                  <a:pt x="38" y="8"/>
                </a:cubicBezTo>
                <a:cubicBezTo>
                  <a:pt x="30" y="0"/>
                  <a:pt x="9" y="7"/>
                  <a:pt x="6" y="18"/>
                </a:cubicBezTo>
                <a:cubicBezTo>
                  <a:pt x="0" y="35"/>
                  <a:pt x="6" y="58"/>
                  <a:pt x="17" y="72"/>
                </a:cubicBezTo>
                <a:cubicBezTo>
                  <a:pt x="42" y="103"/>
                  <a:pt x="78" y="113"/>
                  <a:pt x="113" y="125"/>
                </a:cubicBezTo>
                <a:cubicBezTo>
                  <a:pt x="193" y="97"/>
                  <a:pt x="178" y="90"/>
                  <a:pt x="166" y="8"/>
                </a:cubicBezTo>
                <a:cubicBezTo>
                  <a:pt x="155" y="11"/>
                  <a:pt x="137" y="7"/>
                  <a:pt x="134" y="18"/>
                </a:cubicBezTo>
                <a:cubicBezTo>
                  <a:pt x="118" y="75"/>
                  <a:pt x="161" y="101"/>
                  <a:pt x="198" y="125"/>
                </a:cubicBezTo>
                <a:cubicBezTo>
                  <a:pt x="230" y="121"/>
                  <a:pt x="271" y="137"/>
                  <a:pt x="294" y="114"/>
                </a:cubicBezTo>
                <a:cubicBezTo>
                  <a:pt x="312" y="96"/>
                  <a:pt x="291" y="64"/>
                  <a:pt x="283" y="40"/>
                </a:cubicBezTo>
                <a:cubicBezTo>
                  <a:pt x="280" y="30"/>
                  <a:pt x="262" y="18"/>
                  <a:pt x="262" y="18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08160" y="5062680"/>
            <a:ext cx="362160" cy="261720"/>
          </a:xfrm>
          <a:custGeom>
            <a:avLst/>
            <a:gdLst/>
            <a:ahLst/>
            <a:rect l="l" t="t" r="r" b="b"/>
            <a:pathLst>
              <a:path w="228" h="165">
                <a:moveTo>
                  <a:pt x="25" y="0"/>
                </a:moveTo>
                <a:cubicBezTo>
                  <a:pt x="15" y="29"/>
                  <a:pt x="0" y="54"/>
                  <a:pt x="25" y="86"/>
                </a:cubicBezTo>
                <a:cubicBezTo>
                  <a:pt x="41" y="106"/>
                  <a:pt x="89" y="128"/>
                  <a:pt x="89" y="128"/>
                </a:cubicBezTo>
                <a:cubicBezTo>
                  <a:pt x="110" y="125"/>
                  <a:pt x="134" y="129"/>
                  <a:pt x="153" y="118"/>
                </a:cubicBezTo>
                <a:cubicBezTo>
                  <a:pt x="178" y="104"/>
                  <a:pt x="153" y="23"/>
                  <a:pt x="153" y="22"/>
                </a:cubicBezTo>
                <a:cubicBezTo>
                  <a:pt x="147" y="12"/>
                  <a:pt x="132" y="15"/>
                  <a:pt x="121" y="11"/>
                </a:cubicBezTo>
                <a:cubicBezTo>
                  <a:pt x="91" y="57"/>
                  <a:pt x="87" y="67"/>
                  <a:pt x="142" y="86"/>
                </a:cubicBezTo>
                <a:cubicBezTo>
                  <a:pt x="156" y="100"/>
                  <a:pt x="228" y="165"/>
                  <a:pt x="228" y="118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01920" y="5099040"/>
            <a:ext cx="109440" cy="150840"/>
          </a:xfrm>
          <a:custGeom>
            <a:avLst/>
            <a:gdLst/>
            <a:ahLst/>
            <a:rect l="l" t="t" r="r" b="b"/>
            <a:pathLst>
              <a:path w="69" h="95">
                <a:moveTo>
                  <a:pt x="43" y="95"/>
                </a:moveTo>
                <a:cubicBezTo>
                  <a:pt x="50" y="72"/>
                  <a:pt x="69" y="30"/>
                  <a:pt x="43" y="9"/>
                </a:cubicBezTo>
                <a:cubicBezTo>
                  <a:pt x="32" y="0"/>
                  <a:pt x="14" y="16"/>
                  <a:pt x="0" y="20"/>
                </a:cubicBezTo>
                <a:cubicBezTo>
                  <a:pt x="47" y="51"/>
                  <a:pt x="29" y="28"/>
                  <a:pt x="43" y="95"/>
                </a:cubicBez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659-1F95-4AD0-BC56-7440D87381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EDCDF-43F2-49FC-92A8-78A3B065F1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B→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ππ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πρ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πω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衰变由两类夸克图贡献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ffffcc"/>
                </a:solidFill>
                <a:latin typeface="SymbolPS"/>
                <a:ea typeface="SymbolPS"/>
              </a:rPr>
              <a:t>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                                     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              u 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 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 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                        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颜色增强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图                        </a:t>
            </a: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颜色压低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~  1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~  – 0.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2895480"/>
            <a:ext cx="2895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3581280"/>
            <a:ext cx="2895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514600" y="1676520"/>
            <a:ext cx="762120" cy="761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514600" y="2133720"/>
            <a:ext cx="106668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17600" y="2430360"/>
            <a:ext cx="322560" cy="480960"/>
          </a:xfrm>
          <a:custGeom>
            <a:avLst/>
            <a:gdLst/>
            <a:ahLst/>
            <a:rect l="l" t="t" r="r" b="b"/>
            <a:pathLst>
              <a:path w="203" h="303">
                <a:moveTo>
                  <a:pt x="203" y="5"/>
                </a:moveTo>
                <a:cubicBezTo>
                  <a:pt x="178" y="9"/>
                  <a:pt x="148" y="0"/>
                  <a:pt x="128" y="16"/>
                </a:cubicBezTo>
                <a:cubicBezTo>
                  <a:pt x="110" y="30"/>
                  <a:pt x="107" y="80"/>
                  <a:pt x="107" y="80"/>
                </a:cubicBezTo>
                <a:cubicBezTo>
                  <a:pt x="119" y="125"/>
                  <a:pt x="135" y="138"/>
                  <a:pt x="160" y="176"/>
                </a:cubicBezTo>
                <a:cubicBezTo>
                  <a:pt x="153" y="187"/>
                  <a:pt x="151" y="204"/>
                  <a:pt x="139" y="208"/>
                </a:cubicBezTo>
                <a:cubicBezTo>
                  <a:pt x="0" y="250"/>
                  <a:pt x="38" y="172"/>
                  <a:pt x="11" y="250"/>
                </a:cubicBezTo>
                <a:cubicBezTo>
                  <a:pt x="25" y="303"/>
                  <a:pt x="7" y="293"/>
                  <a:pt x="54" y="293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3581280"/>
            <a:ext cx="2895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28954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400800" y="2133720"/>
            <a:ext cx="762120" cy="761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28954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895480"/>
            <a:ext cx="838080" cy="0"/>
          </a:xfrm>
          <a:prstGeom prst="line">
            <a:avLst/>
          </a:prstGeom>
          <a:ln w="93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086600" y="2133720"/>
            <a:ext cx="762120" cy="761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198108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2514600"/>
            <a:ext cx="0" cy="1066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F66-DADA-4AAF-BAB5-4643D29C51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BEB69-DC4C-45EA-9F3E-43E379973B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简单因子化的方法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非轻子衰变矩阵元可以利用</a:t>
            </a: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因子化假设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分成两部分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微扰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可以计算的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短程部分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强子参数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:   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形状因子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衰变常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&lt;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|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  <a:ea typeface="Times New Roman"/>
              </a:rPr>
              <a:t>eff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|B&gt; =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&lt;π|V-A|0&gt;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&lt;π|V-A|B&gt;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=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(C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+C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/3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F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  <a:ea typeface="Times New Roman"/>
              </a:rPr>
              <a:t>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A24-B206-4600-A9FA-3E1D5A2D402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86562-51F0-41F0-8587-9B467F4159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因子化方法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第一类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衰变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 (B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  ∝  C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C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/N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=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a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第二类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衰变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 (B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  ∝  C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C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/N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=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第三类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衰变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 (B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  ∝  (C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C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 (1+/N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+a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487692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828800"/>
            <a:ext cx="914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666520" y="2133720"/>
            <a:ext cx="838440" cy="457200"/>
          </a:xfrm>
          <a:prstGeom prst="line">
            <a:avLst/>
          </a:prstGeom>
          <a:ln w="28440">
            <a:solidFill>
              <a:srgbClr val="ff2b2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90E-063E-4F57-9F49-D2F0F5CD1F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97C74-E869-4483-95B5-E177E0C075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推广的因子化方法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≠  3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来引入一些非因子化的贡献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ff0066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= 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可以解释大多数的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的非轻子衰变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例如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 +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, 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也就是说，对于</a:t>
            </a: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第一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第三类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衰变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因子化贡献为主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，实验理论符合得很好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但是对于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第二类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衰变则不好。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例如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"/>
              </a:rPr>
              <a:t>的理论计算值则远小于实验</a:t>
            </a:r>
            <a:r>
              <a:rPr b="0" lang="zh-CN" sz="3200" spc="-1" strike="noStrike" baseline="30000">
                <a:solidFill>
                  <a:srgbClr val="ffff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Ali, Kramer, Lü 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eng, Tseng, Yang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709-125C-4242-9517-81923648D5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B9C9D-1417-48FC-8EF4-286461D7B4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因子化方法的缺点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66"/>
                </a:solidFill>
                <a:latin typeface="Arial"/>
              </a:rPr>
              <a:t>非因子化贡献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大小不能预言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形状因子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大小依赖于实验和其它方法的计算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    —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直接影响分支比的计算（误差的主要来源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湮灭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计算存在困难（大小不能确定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强相互作用相角不能准确计算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    —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影响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P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破坏大小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预言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末态相互作用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计算存在很大困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F6F-D023-4EE2-B662-B8BE07CDE99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74839-15D5-4E30-BBD8-BD2120CCA1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介子工厂实验的现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截止到今年夏天的国际高能物理大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EK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elle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合作组已经收集到 </a:t>
            </a: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85 </a:t>
            </a:r>
            <a:r>
              <a:rPr b="0" lang="en-US" sz="3200" spc="-1" strike="noStrike">
                <a:solidFill>
                  <a:srgbClr val="ff2b2b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B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对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LAC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aBar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合作组则已经收集到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88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B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他们基本上接近测量分支比为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zh-CN" sz="3200" spc="-1" strike="noStrike" baseline="30000">
                <a:solidFill>
                  <a:srgbClr val="00ff00"/>
                </a:solidFill>
                <a:latin typeface="Arial"/>
              </a:rPr>
              <a:t>–7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衰变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676520" y="4191120"/>
            <a:ext cx="3045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77320" y="2590920"/>
            <a:ext cx="3045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4F5-6B72-42D0-9857-0A11B48CBFD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53482-A2B1-4150-B49A-D4A56581A3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改进的方法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虽然因子化方法成功地解释了许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衰变的分支比，但是理论上仍然存在着需要改进的地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1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因子化 方法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BN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2 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微扰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QCD 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求和规则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光锥求和规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---------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黄涛、李作宏等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A31-79DC-4EA3-AB82-81720580E4D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49A2F-E2D2-44DC-952F-CD0A684C5B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964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因子化方法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在简单因子化方法的基础上，利用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重夸克有效理论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作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1/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展开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π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|Q|B&gt; = &lt;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|j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|B&gt;  &lt;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| j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|0&gt;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[1+∑r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Λ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QCD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/m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略去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Λ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QCD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/m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贡献计算到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一阶项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包括非因子化贡献的领头阶和四夸克算符的</a:t>
            </a:r>
            <a:r>
              <a:rPr b="0" lang="en-US" sz="2800" spc="-1" strike="noStrike">
                <a:solidFill>
                  <a:srgbClr val="ff2b2b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ff2b2b"/>
                </a:solidFill>
                <a:latin typeface="Arial"/>
              </a:rPr>
              <a:t>s </a:t>
            </a: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阶</a:t>
            </a:r>
            <a:r>
              <a:rPr b="0" lang="en-US" sz="2800" spc="-1" strike="noStrike">
                <a:solidFill>
                  <a:srgbClr val="ff2b2b"/>
                </a:solidFill>
                <a:latin typeface="Arial"/>
              </a:rPr>
              <a:t>QCD</a:t>
            </a: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修正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国内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---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杜东生、杨茂志、杨亚东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336-EB54-4C47-8700-86EADE8F96E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8E5C0-CA53-4B2B-AAD7-4D3B483DF3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7160" y="696600"/>
            <a:ext cx="86374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因子化方法的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Times New Roman"/>
              </a:rPr>
              <a:t>α</a:t>
            </a:r>
            <a:r>
              <a:rPr b="0" lang="en-US" sz="4000" spc="-1" strike="noStrike" baseline="-25000">
                <a:solidFill>
                  <a:srgbClr val="ff0066"/>
                </a:solidFill>
                <a:latin typeface="Arial"/>
              </a:rPr>
              <a:t>s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修正图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7383" t="18458" r="7383" b="17228"/>
          <a:stretch/>
        </p:blipFill>
        <p:spPr>
          <a:xfrm>
            <a:off x="380880" y="1676520"/>
            <a:ext cx="8382240" cy="4495680"/>
          </a:xfrm>
          <a:prstGeom prst="rect">
            <a:avLst/>
          </a:prstGeom>
          <a:ln w="28440">
            <a:solidFill>
              <a:srgbClr val="ffffcc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609480" y="3200400"/>
            <a:ext cx="2133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612-B0F3-40D1-BC91-9F72EADFEA8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F65B9-3C5D-44B8-BE9B-4A0292E03F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其中四夸克算符的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CD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修正在推广的因子化方法中已经计算过了。这里只是更系统地重新计算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非因子化的贡献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是原来因子化方法中不能计算的，包含在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ff00"/>
                </a:solidFill>
                <a:latin typeface="Arial"/>
              </a:rPr>
              <a:t>eff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中的部分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CD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因子化方法中领头阶的贡献仍然是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形状因子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乘以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衰变常数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维尔森系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因而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形状因子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大小还依赖于其他方法的计算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对于非因子化贡献的图的计算需要引进介子的</a:t>
            </a: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波函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31D-FD65-437E-A8EE-1830158340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27034-BFA9-44A2-A2A9-F86D3FF0E8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由于级数展开中，非因子化的贡献总是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s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阶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修正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量级，是次级修正。所以对于非因子化贡献起主要作用的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第二类衰变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原则上是不能计算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另外，由于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湮灭图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发散度有可能是线性发散，因而造成湮灭图计算的困难。只能引进一个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自由参数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59D-3710-468D-A1CA-65FC709B9CF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BD4BB-CF2E-4531-BA70-A3C07D9E75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QCD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方法的图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rcRect l="0" t="22765" r="0" b="20304"/>
          <a:stretch/>
        </p:blipFill>
        <p:spPr>
          <a:xfrm>
            <a:off x="685800" y="1752480"/>
            <a:ext cx="7924680" cy="3899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5800" y="563868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虚线内是有效的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六夸克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相互作用（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微扰的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8AB-5EA7-40E8-ADA6-BF55D709FB5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AC951-3153-47A6-9FFE-0069AD8010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QCD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方法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~ ∫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 [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(t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(k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(k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(k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H(k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,k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,k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,t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] </a:t>
            </a:r>
            <a:r>
              <a:rPr b="0" lang="en-US" sz="3200" spc="-1" strike="noStrike">
                <a:solidFill>
                  <a:srgbClr val="ff2b2b"/>
                </a:solidFill>
                <a:latin typeface="Arial"/>
              </a:rPr>
              <a:t>exp{-S(t)}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(k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等是介子的光锥波函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(t)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是四夸克算符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lson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系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b2b"/>
                </a:solidFill>
                <a:latin typeface="Arial"/>
              </a:rPr>
              <a:t>exp{-S(t)}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是联系短程和长程相互作用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dakov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因子，它能有效地压低长程作用的贡献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H(k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,k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,k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,t)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是六夸克相互作用的微扰计算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D783-CE75-4D74-84EE-3DE802A0D5C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23949-1DD2-47DC-9780-B700E46A0B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QCD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微扰计算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(t)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的费曼图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11998" t="8614" r="20304" b="7383"/>
          <a:stretch/>
        </p:blipFill>
        <p:spPr>
          <a:xfrm>
            <a:off x="228600" y="1676520"/>
            <a:ext cx="7162920" cy="4647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467480" y="1676520"/>
            <a:ext cx="144792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计算</a:t>
            </a: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形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状因子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费曼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67480" y="4495680"/>
            <a:ext cx="14479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非因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化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献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358-FA33-4B18-89FE-281AE846E44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A46E9-64AA-4E11-BFBB-EE11E5B268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QCD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微扰计算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(t)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的费曼图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38520" y="1905120"/>
            <a:ext cx="1298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非因子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化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湮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灭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因子化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</a:t>
            </a: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湮灭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rcRect l="11536" t="8614" r="25841" b="6153"/>
          <a:stretch/>
        </p:blipFill>
        <p:spPr>
          <a:xfrm>
            <a:off x="457200" y="1676520"/>
            <a:ext cx="668196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BDE-647E-4D23-AE57-5A58FB5075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E1D91-5197-41A1-AFD7-34B8F420F2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微扰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的计算结果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696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ahoma"/>
              </a:rPr>
              <a:t>衰变道         微扰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QCD            </a:t>
            </a:r>
            <a:r>
              <a:rPr b="0" lang="zh-CN" sz="3200" spc="-1" strike="noStrike">
                <a:solidFill>
                  <a:srgbClr val="ffffcc"/>
                </a:solidFill>
                <a:latin typeface="Tahoma"/>
              </a:rPr>
              <a:t>实验  </a:t>
            </a:r>
            <a:r>
              <a:rPr b="0" lang="zh-CN" sz="3200" spc="-1" strike="noStrike">
                <a:solidFill>
                  <a:srgbClr val="ffffcc"/>
                </a:solidFill>
                <a:latin typeface="Tahoma"/>
              </a:rPr>
              <a:t>(10</a:t>
            </a:r>
            <a:r>
              <a:rPr b="0" lang="zh-CN" sz="3200" spc="-1" strike="noStrike" baseline="30000">
                <a:solidFill>
                  <a:srgbClr val="ffffcc"/>
                </a:solidFill>
                <a:latin typeface="Tahoma"/>
              </a:rPr>
              <a:t>–6</a:t>
            </a:r>
            <a:r>
              <a:rPr b="0" lang="zh-CN" sz="32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696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6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±2               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4.9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±0.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696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       0.3±0.1               &lt;5.7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696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0           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7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±1             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5.9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±1.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Ukai,Yang, Phys. Rev.D63, 074009 (2001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8A50-1BF4-456A-A33D-FE4E1FCDD63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211E9-A0D4-4E62-A4CB-4DCF27940D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企鹅图衰变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第一个企鹅图衰变是由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EO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发现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*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2743200"/>
            <a:ext cx="8510400" cy="3436920"/>
          </a:xfrm>
          <a:prstGeom prst="rect">
            <a:avLst/>
          </a:prstGeom>
          <a:ln w="9360">
            <a:solidFill>
              <a:srgbClr val="ff2b2b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85800" y="6019920"/>
            <a:ext cx="723888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905120" y="601992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477120" y="601992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086600" y="2514600"/>
            <a:ext cx="0" cy="838080"/>
          </a:xfrm>
          <a:prstGeom prst="line">
            <a:avLst/>
          </a:prstGeom>
          <a:ln w="38160">
            <a:solidFill>
              <a:srgbClr val="ff2b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3352680"/>
            <a:ext cx="914400" cy="0"/>
          </a:xfrm>
          <a:prstGeom prst="line">
            <a:avLst/>
          </a:prstGeom>
          <a:ln w="38160">
            <a:solidFill>
              <a:srgbClr val="ff2b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2EE-3E38-430C-8F01-470FE74DDC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CF9A8-53D7-4D8E-B196-71E4B7E635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P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破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我们还预言了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π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π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–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衰变的直接和间接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P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破坏的大小，最近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工厂实验给出的最新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P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破坏测量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平均值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）与我们的预言基本相符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参数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%)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QCD     QCD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因子化     实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ππ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–3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20   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12     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–57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19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ππ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–20±30       –35 ±35       –57±25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620-787A-4C71-8153-129687B580F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D352E-AD93-41DC-94D0-42D2C6F76B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 </a:t>
            </a:r>
            <a:r>
              <a:rPr b="0" lang="en-US" sz="4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πρ, πω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的衰变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5104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衰变道        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QCD     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实验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10</a:t>
            </a:r>
            <a:r>
              <a:rPr b="0" lang="zh-CN" sz="3200" spc="-1" strike="noStrike" baseline="30000">
                <a:solidFill>
                  <a:srgbClr val="ffffcc"/>
                </a:solidFill>
                <a:latin typeface="Arial"/>
              </a:rPr>
              <a:t>–6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ρ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               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5.5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1.0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8.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2.4(Bell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ρ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ρ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    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26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 6  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7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ω        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5.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1.1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6.6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2.2(Babar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Yang, Eur. Phys. J. C23, 275(200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315-951D-4732-8DD5-3199351A311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2B969-C78F-4393-A996-E31A398024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纯湮灭图贡献的衰变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         s       s              b          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          c   D</a:t>
            </a:r>
            <a:r>
              <a:rPr b="0" lang="en-US" sz="3200" spc="-1" strike="noStrike" baseline="-30000">
                <a:solidFill>
                  <a:srgbClr val="ffffcc"/>
                </a:solidFill>
                <a:latin typeface="Arial"/>
                <a:ea typeface="楷体"/>
              </a:rPr>
              <a:t>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    u         c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2590920"/>
            <a:ext cx="457200" cy="4572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3880" y="3048120"/>
            <a:ext cx="457200" cy="4572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286000" y="2285640"/>
            <a:ext cx="762120" cy="762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048120"/>
            <a:ext cx="762120" cy="7617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819520" y="2666520"/>
            <a:ext cx="38088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3048120"/>
            <a:ext cx="38088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2895480"/>
            <a:ext cx="304920" cy="1526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4419720"/>
            <a:ext cx="38088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523880" y="4800600"/>
            <a:ext cx="457200" cy="4572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209680" y="4114440"/>
            <a:ext cx="685800" cy="6858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4800600"/>
            <a:ext cx="762120" cy="6094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4419720"/>
            <a:ext cx="38088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4800600"/>
            <a:ext cx="380880" cy="3049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14600" y="4723920"/>
            <a:ext cx="304920" cy="3049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2514600"/>
            <a:ext cx="457200" cy="4572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952880" y="2971800"/>
            <a:ext cx="457200" cy="4572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638680" y="2285640"/>
            <a:ext cx="762120" cy="762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38680" y="3048120"/>
            <a:ext cx="762120" cy="7617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248520" y="2590920"/>
            <a:ext cx="38088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2971800"/>
            <a:ext cx="38088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4267080"/>
            <a:ext cx="38124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105520" y="4648320"/>
            <a:ext cx="457200" cy="4572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715000" y="3962160"/>
            <a:ext cx="685800" cy="6858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4648320"/>
            <a:ext cx="762120" cy="6094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248520" y="4419720"/>
            <a:ext cx="38088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4800600"/>
            <a:ext cx="380880" cy="3049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334120" y="4800600"/>
            <a:ext cx="914400" cy="763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2743200"/>
            <a:ext cx="1067040" cy="2286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286000"/>
            <a:ext cx="1526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2209680"/>
            <a:ext cx="1526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2209680"/>
            <a:ext cx="1522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2286000"/>
            <a:ext cx="1522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676160" y="2742840"/>
            <a:ext cx="152280" cy="152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676520" y="3200040"/>
            <a:ext cx="152280" cy="15228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590560" y="2590920"/>
            <a:ext cx="152280" cy="15228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352680"/>
            <a:ext cx="152280" cy="1526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971800" y="2742840"/>
            <a:ext cx="152280" cy="15228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971800" y="3200400"/>
            <a:ext cx="76320" cy="7632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E06-0ACF-4623-B181-39CA883A6EA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1C9BE-4E5C-4440-8F39-130914E944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纯湮灭图贡献的衰变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∝  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c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u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ü, Ukai, hep-ph/0210206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 ≈ </a:t>
            </a:r>
            <a:r>
              <a:rPr b="0" lang="en-US" sz="3200" spc="-1" strike="noStrike">
                <a:solidFill>
                  <a:srgbClr val="ff2b2b"/>
                </a:solidFill>
                <a:latin typeface="Arial"/>
              </a:rPr>
              <a:t>(4±1)x10</a:t>
            </a:r>
            <a:r>
              <a:rPr b="0" lang="en-US" sz="3200" spc="-1" strike="noStrike" baseline="30000">
                <a:solidFill>
                  <a:srgbClr val="ff2b2b"/>
                </a:solidFill>
                <a:latin typeface="Arial"/>
              </a:rPr>
              <a:t>–5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elle:      Br  =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3.2 x 10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Bar:     Br =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4.6 x  10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5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∝  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u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c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*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Br ≈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8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∝  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u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c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*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 ≈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7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 ü Eur.Phys.J.C24,121(2002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369-6E94-4FDC-81A7-378D510A3CD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C9E7F-DD58-4FB6-8D2F-83B9CA2DE8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7160" y="627120"/>
            <a:ext cx="863748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(t)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计算中不同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Times New Roman"/>
              </a:rPr>
              <a:t>α</a:t>
            </a:r>
            <a:r>
              <a:rPr b="0" lang="en-US" sz="44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的贡献相对大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rcRect l="10613" t="9844" r="7845" b="8614"/>
          <a:stretch/>
        </p:blipFill>
        <p:spPr>
          <a:xfrm>
            <a:off x="1219320" y="1752480"/>
            <a:ext cx="6781680" cy="40388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6760" y="1981080"/>
            <a:ext cx="6188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r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10080" y="5791320"/>
            <a:ext cx="12956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8D2-D8DB-41EA-BAE0-9B2F6C75723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0091E-EAEF-4267-A6E9-B380F8EEAE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微扰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方法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微扰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CD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方法是一个自恰的 两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非轻子衰变理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udakov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因子有效地压低了非微扰的贡献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非因子化和湮灭图的贡献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的非轻子衰变中起着很重要的作用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特别是对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P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破坏的研究上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微扰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CD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方法预言了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较大的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P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不对称性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理论的正确性将很快被实验验证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4DF-2DD9-466D-AE0A-B478DEEA687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5FEC7-B045-4A45-A9C2-358CDBEF9E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</a:rPr>
              <a:t>因子化和微扰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</a:rPr>
              <a:t>方法的比较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733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因子化方法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形状因子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是输入参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波函数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是输入参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忽略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夸克横动量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，有端点发散，引入截断参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24280" y="1676520"/>
            <a:ext cx="3733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微扰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形状因子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可以计算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波函数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是输入参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引入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夸克横动量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有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dakov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压低效应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无端点发散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32D-C2E6-4298-A807-8CAB47281822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5B2EE-A94E-44B2-88E7-BB6864EE42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</a:rPr>
              <a:t>因子化和微扰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</a:rPr>
              <a:t>方法的比较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CD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因子化方法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不能计算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非因子化贡献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起主要作用的衰变，也不能定量计算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湮灭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贡献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非因子化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是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  <a:ea typeface="Times New Roman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阶修正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四夸克算符的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维尔森系数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计算到次领头阶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24280" y="1676520"/>
            <a:ext cx="3733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微扰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CD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方法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能计算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非因子化贡献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起主要作用的衰变，也能定量计算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湮灭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贡献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非因子化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与因子化贡献是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  <a:ea typeface="Times New Roman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同阶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维尔森系数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只计算到领头阶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D0B-8E54-4F15-A59F-6A532B4AC143}" type="slidenum">
              <a:t>3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D1997-D5B3-423B-A940-FD8B0A0192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KM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相角的测量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β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已经由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→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J/ψK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衰变得到 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工厂实验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对于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γ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角来说，一直没有很好的方法。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→K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ρ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或者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→K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来测量 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由于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企鹅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干涉效应， 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→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衰变不能干净地得到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α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角的数值。需要测量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→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0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衰变。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工厂实验很困难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如果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理论计算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能确定企鹅图的大小，将能解决这个问题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858-81B2-4E18-B10E-B9A59B709B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76274-367A-4A40-95F5-F7305FB7FF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380880" y="533520"/>
          <a:ext cx="8458200" cy="569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8458200" cy="56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A41-C950-4A6E-8ED0-B9867E288285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77782-FABA-4D20-858D-CE5E106FE5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辐射衰变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x10</a:t>
            </a:r>
            <a:r>
              <a:rPr b="0" lang="en-US" sz="4400" spc="-1" strike="noStrike" baseline="30000">
                <a:solidFill>
                  <a:srgbClr val="ffcc00"/>
                </a:solidFill>
                <a:latin typeface="Arial"/>
              </a:rPr>
              <a:t>–6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K*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: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42.3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 4.0 ±2.2(BaBar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39.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 2.3 ±2.5 (Bell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K*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: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38.3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 6.2 ±2.2(BaBar)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42.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 3.5 ±3.1 (Bell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&lt; 1.6 (BaBar)      &lt; 2.6 (Bell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&lt; 2.3 (BaBar)     &lt; 4.9 (Bell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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&lt; 1.2 (BaBar)      &lt; 3.1 (Bell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684-835A-49D8-BD70-BEEF373C27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9B8AB-DF6F-4888-B91B-79E33C5D5A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KM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相角</a:t>
            </a:r>
            <a:r>
              <a:rPr b="0" lang="zh-CN" sz="44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的测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43444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Bar result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J/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K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n 2</a:t>
            </a:r>
            <a:r>
              <a:rPr b="0" lang="zh-CN" sz="3200" spc="-1" strike="noStrike">
                <a:solidFill>
                  <a:srgbClr val="ffffcc"/>
                </a:solidFill>
                <a:latin typeface="Symbol"/>
                <a:ea typeface="Symbol"/>
              </a:rPr>
              <a:t>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0.74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0.067±0.03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K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：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n 2</a:t>
            </a:r>
            <a:r>
              <a:rPr b="0" lang="zh-CN" sz="3200" spc="-1" strike="noStrike">
                <a:solidFill>
                  <a:srgbClr val="ffffcc"/>
                </a:solidFill>
                <a:latin typeface="Symbol"/>
                <a:ea typeface="Symbol"/>
              </a:rPr>
              <a:t>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=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–0.19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0.5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0.0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elle result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J/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K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n 2</a:t>
            </a:r>
            <a:r>
              <a:rPr b="0" lang="zh-CN" sz="3200" spc="-1" strike="noStrike">
                <a:solidFill>
                  <a:srgbClr val="ffffcc"/>
                </a:solidFill>
                <a:latin typeface="Symbol"/>
                <a:ea typeface="Symbol"/>
              </a:rPr>
              <a:t>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0.719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0.074±0.03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K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：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n 2</a:t>
            </a:r>
            <a:r>
              <a:rPr b="0" lang="zh-CN" sz="3200" spc="-1" strike="noStrike">
                <a:solidFill>
                  <a:srgbClr val="ffffcc"/>
                </a:solidFill>
                <a:latin typeface="Symbol"/>
                <a:ea typeface="Symbol"/>
              </a:rPr>
              <a:t>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–0.73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0.6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0.1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新物理？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邢志忠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ep-ph/0008018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5F0-4964-40C3-BBE7-CACB9D4512F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4AE8D-E5B7-4057-97ED-8C7EA0A0AE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ahoma"/>
              </a:rPr>
              <a:t>限定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CKM </a:t>
            </a:r>
            <a:r>
              <a:rPr b="1" lang="zh-CN" sz="4000" spc="-1" strike="noStrike">
                <a:solidFill>
                  <a:srgbClr val="ff9900"/>
                </a:solidFill>
                <a:latin typeface="Tahoma"/>
              </a:rPr>
              <a:t>相角</a:t>
            </a:r>
            <a:r>
              <a:rPr b="1" lang="en-US" sz="40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r>
              <a:rPr b="1" lang="zh-CN" sz="4000" spc="-1" strike="noStrike">
                <a:solidFill>
                  <a:srgbClr val="ff9900"/>
                </a:solidFill>
                <a:latin typeface="Tahoma"/>
              </a:rPr>
              <a:t>的方法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应用最新的两个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工厂实验对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 →ππ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P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破坏参数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测量数据，提出了一种模型无关的限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KM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相角</a:t>
            </a:r>
            <a:r>
              <a:rPr b="0" lang="en-US" sz="3200" spc="-1" strike="noStrike">
                <a:solidFill>
                  <a:srgbClr val="ff2b2b"/>
                </a:solidFill>
                <a:latin typeface="Symbol"/>
                <a:ea typeface="Symbol"/>
              </a:rPr>
              <a:t>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方法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据此指出，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工厂实验对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→ππ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P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破坏参数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测量与现有的其他实验给出的拟和结果并不矛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Xiao, Phys. Rev. D66, 074011 (200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2F4-5975-421E-9727-98922ACD2C7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E9E7B-0FD5-469C-9C7B-DF3217E8D1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实验所测的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ππ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ππ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破坏参数只依赖于三个参数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KM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相角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、圈图和树图的相对大小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和它们的相对强相互作用位相</a:t>
            </a:r>
            <a:r>
              <a:rPr b="0" lang="zh-CN" sz="2800" spc="-1" strike="noStrike">
                <a:solidFill>
                  <a:srgbClr val="ff0066"/>
                </a:solidFill>
                <a:latin typeface="Symbol"/>
                <a:ea typeface="Symbol"/>
              </a:rPr>
              <a:t>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由两个实验测量值虽然不能定出三个参数的大小，却能对其范围作出限制。我们的结果是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86°&lt;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&lt; 148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°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也就是说，</a:t>
            </a:r>
            <a:r>
              <a:rPr b="0" lang="en-US" sz="2800" spc="-1" strike="noStrike">
                <a:solidFill>
                  <a:srgbClr val="ff2b2b"/>
                </a:solidFill>
                <a:latin typeface="Symbol"/>
                <a:ea typeface="Symbol"/>
              </a:rPr>
              <a:t>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倾向于</a:t>
            </a: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&gt; 90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这个测量也从另一个方面验证了我们的微扰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CD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方法是可靠的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B51-6275-4409-9457-A97B14545A2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777EC-3876-432F-89F8-AD3662EB80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物理其它方面的进展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张肇西、陈裕启等的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产生和衰变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研究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重子研究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的重子衰变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---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研究很少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的三体和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多体衰变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---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研究很少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ub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c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等的抽取以及</a:t>
            </a:r>
            <a:r>
              <a:rPr b="0" lang="en-US" sz="3200" spc="-1" strike="noStrike">
                <a:solidFill>
                  <a:srgbClr val="ff2b2b"/>
                </a:solidFill>
                <a:latin typeface="Arial"/>
              </a:rPr>
              <a:t>CP</a:t>
            </a: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破坏（</a:t>
            </a:r>
            <a:r>
              <a:rPr b="0" lang="en-US" sz="3200" spc="-1" strike="noStrike">
                <a:solidFill>
                  <a:srgbClr val="ff2b2b"/>
                </a:solidFill>
                <a:latin typeface="Arial"/>
              </a:rPr>
              <a:t>CKM –</a:t>
            </a: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参数拟和）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研究、重夸克有效场理论的方法—吴岳良的报告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黄朝商、肖振军、杨亚东、袁野等的分组报告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6E1-5A47-4A80-A2E0-4F810E568D4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D6080-32C7-4BF3-BB5A-0B065D5A8F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介子工厂实验已经通过很好地测量了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KM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相角</a:t>
            </a:r>
            <a:r>
              <a:rPr b="0" lang="zh-CN" sz="28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。实验正在努力测量另外的两个相角</a:t>
            </a:r>
            <a:r>
              <a:rPr b="0" lang="zh-CN" sz="2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物理实验已经测量了和即将测量很多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介子衰变分支比，包括许多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稀有衰变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。有可能有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新物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信号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介子非轻子衰变的理论计算已经能够很好地解释</a:t>
            </a: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分支比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。并有希望对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P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破坏大小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作出准确的预言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4A56-DC6D-4E06-A2A2-99040936FE0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B83E5-7653-419B-86B1-2545AA9172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纯轻子衰变（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对新物理比较敏感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5562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s,d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ν ν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螺旋度禁戒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过程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而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s,d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→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螺旋度压低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过程  </a:t>
            </a:r>
            <a:r>
              <a:rPr b="0" lang="zh-CN" sz="3200" spc="-1" strike="noStrike">
                <a:solidFill>
                  <a:srgbClr val="ffffcc"/>
                </a:solidFill>
                <a:latin typeface="Symbol"/>
                <a:ea typeface="Symbol"/>
              </a:rPr>
              <a:t>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∝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00ff00"/>
                </a:solidFill>
                <a:latin typeface="Times New Roman"/>
              </a:rPr>
              <a:t>l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r(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→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) &lt; 3.3  x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r(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→ </a:t>
            </a:r>
            <a:r>
              <a:rPr b="0" i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i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) &lt; 2.0  x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r(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→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i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) &lt; 2.1  x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2057400"/>
            <a:ext cx="2286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8767" t="9844" r="52143" b="7383"/>
          <a:stretch/>
        </p:blipFill>
        <p:spPr>
          <a:xfrm>
            <a:off x="5791320" y="1523880"/>
            <a:ext cx="3128760" cy="4845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7010280" y="1752120"/>
            <a:ext cx="685800" cy="3812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1880" y="3581280"/>
            <a:ext cx="457200" cy="3812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229600" y="5486400"/>
            <a:ext cx="457200" cy="533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EF0-4667-463A-A6E6-CB4F605F2B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33DD2-1581-4B03-81ED-6FF826777D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辐射衰变（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对新物理比较敏感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43444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s,d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ν ν γ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则可以衰变，而只是</a:t>
            </a:r>
            <a:r>
              <a:rPr b="0" lang="zh-CN" sz="32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QED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压低的过程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分支比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8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, 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9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,Zhang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B 381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, (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1996) 348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类似的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s,d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→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γ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也不再有螺旋度的压低效应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分支比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9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, 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1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.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ilam,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,Zhang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B391,461(1997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→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ν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γ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分支比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5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.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hang,Cheng,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B425,166 (1998);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hang,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,Wang,Zong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RD 60 114013 (1999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057400"/>
            <a:ext cx="2286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800600"/>
            <a:ext cx="1522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1F2-2DA9-45F5-BFC0-D717418158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5C639-69B8-462E-96F3-F203C83CB8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627120"/>
            <a:ext cx="863748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单举辐射衰变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10</a:t>
            </a:r>
            <a:r>
              <a:rPr b="0" lang="en-US" sz="4400" spc="-1" strike="noStrike" baseline="30000">
                <a:solidFill>
                  <a:srgbClr val="ffcc00"/>
                </a:solidFill>
                <a:latin typeface="Arial"/>
              </a:rPr>
              <a:t>–4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BFcomp" descr=""/>
          <p:cNvPicPr/>
          <p:nvPr/>
        </p:nvPicPr>
        <p:blipFill>
          <a:blip r:embed="rId2"/>
          <a:srcRect l="12459" t="15013" r="8767" b="18274"/>
          <a:stretch/>
        </p:blipFill>
        <p:spPr>
          <a:xfrm>
            <a:off x="0" y="160020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CAF-22B4-45FB-9466-ACDBE1CBD7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C7B84-A3AD-4237-968B-CBE772956A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半轻子衰变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10</a:t>
            </a:r>
            <a:r>
              <a:rPr b="0" lang="en-US" sz="4400" spc="-1" strike="noStrike" baseline="30000">
                <a:solidFill>
                  <a:srgbClr val="ffcc00"/>
                </a:solidFill>
                <a:latin typeface="Arial"/>
              </a:rPr>
              <a:t>–7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), 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= e </a:t>
            </a:r>
            <a:r>
              <a:rPr b="0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r(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00ff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00ff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) = (61 ±14±12) (Belle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r(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K </a:t>
            </a: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) = (7.8 ±2.2±1.5) (BaBar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r(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K </a:t>
            </a: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) = (5.8 ±1.6±0.6) (Belle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r(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K* </a:t>
            </a: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) = (16.8 ±6.3±2.8) (BaBar) (Belle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无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)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理论与实验结果基本符合：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Bar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在国际高能物理会议上引用了吴岳良等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QEFT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结果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黄朝商等的半轻子衰变中的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新物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贡献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C8F-016A-4904-A9C0-49682F6EA6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AACB2-3418-4C48-A833-132C10AD85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B→K</a:t>
            </a:r>
            <a:r>
              <a:rPr b="0" lang="en-US" sz="4000" spc="-1" strike="noStrike" baseline="30000">
                <a:solidFill>
                  <a:srgbClr val="ffcc00"/>
                </a:solidFill>
                <a:latin typeface="Tahoma"/>
              </a:rPr>
              <a:t>*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（→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Kπ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）</a:t>
            </a: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4000" spc="-1" strike="noStrike" baseline="30000">
                <a:solidFill>
                  <a:srgbClr val="ffcc00"/>
                </a:solidFill>
                <a:latin typeface="Tahoma"/>
              </a:rPr>
              <a:t>+ </a:t>
            </a: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4000" spc="-1" strike="noStrike" baseline="30000">
                <a:solidFill>
                  <a:srgbClr val="ffcc00"/>
                </a:solidFill>
                <a:latin typeface="Tahoma"/>
              </a:rPr>
              <a:t>–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在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介子的稀有衰变研究中，我们提出了通过新物理对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→K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（→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Kπ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）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衰变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中角分布的影响，来寻找新物理的方法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由于最终的衰变末态是四个粒子，有两个衰变平面。此两平面的夹角为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φ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微分衰变宽度是夹角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函数，这个函数与相互作用的形式有关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im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L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Morozumi,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D 62 034013, 2000;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D 64 094014,200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25C-0446-47D9-8C28-501C8B95553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36D97-1730-4A18-98A2-997643ADFB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c dd</cp:lastModifiedBy>
  <dcterms:modified xsi:type="dcterms:W3CDTF">2002-10-29T02:51:46Z</dcterms:modified>
  <cp:revision>199</cp:revision>
  <dc:subject/>
  <dc:title>PowerPoint Presentation</dc:title>
</cp:coreProperties>
</file>